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097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1"/>
          </p:nvPr>
        </p:nvSpPr>
        <p:spPr>
          <a:xfrm>
            <a:off x="4020840" y="0"/>
            <a:ext cx="3074760" cy="5097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0" y="9721800"/>
            <a:ext cx="3075120" cy="5097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402084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D3133F-D78F-435A-B307-57F63503532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992160" y="768240"/>
            <a:ext cx="51166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992160" y="768240"/>
            <a:ext cx="51166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992160" y="768240"/>
            <a:ext cx="51166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992160" y="768240"/>
            <a:ext cx="51166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992160" y="768240"/>
            <a:ext cx="51166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992160" y="768240"/>
            <a:ext cx="51166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992160" y="768240"/>
            <a:ext cx="51166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992160" y="768240"/>
            <a:ext cx="51166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992160" y="768240"/>
            <a:ext cx="51166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992160" y="768240"/>
            <a:ext cx="51166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992160" y="768240"/>
            <a:ext cx="51166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992160" y="768240"/>
            <a:ext cx="51166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992160" y="768240"/>
            <a:ext cx="51166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992160" y="768240"/>
            <a:ext cx="51166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992160" y="768240"/>
            <a:ext cx="51166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992160" y="768240"/>
            <a:ext cx="51166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716292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914256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0" y="3858480"/>
            <a:ext cx="914256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716292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446148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5040" y="549000"/>
            <a:ext cx="446148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0" y="3858480"/>
            <a:ext cx="446148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5040" y="3858480"/>
            <a:ext cx="446148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716292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294372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091320" y="549000"/>
            <a:ext cx="294372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82640" y="549000"/>
            <a:ext cx="294372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0" y="3858480"/>
            <a:ext cx="294372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091320" y="3858480"/>
            <a:ext cx="294372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82640" y="3858480"/>
            <a:ext cx="294372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716292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0" y="549000"/>
            <a:ext cx="9142560" cy="63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716292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914256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716292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446148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040" y="549000"/>
            <a:ext cx="446148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716292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-360" y="39240"/>
            <a:ext cx="7162920" cy="19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716292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446148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040" y="549000"/>
            <a:ext cx="446148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0" y="3858480"/>
            <a:ext cx="446148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716292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0" y="549000"/>
            <a:ext cx="9142560" cy="63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716292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446148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040" y="549000"/>
            <a:ext cx="446148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5040" y="3858480"/>
            <a:ext cx="446148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716292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446148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040" y="549000"/>
            <a:ext cx="446148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0" y="3858480"/>
            <a:ext cx="914256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716292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914256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0" y="3858480"/>
            <a:ext cx="914256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716292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446148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5040" y="549000"/>
            <a:ext cx="446148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0" y="3858480"/>
            <a:ext cx="446148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5040" y="3858480"/>
            <a:ext cx="446148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716292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294372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1320" y="549000"/>
            <a:ext cx="294372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82640" y="549000"/>
            <a:ext cx="294372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0" y="3858480"/>
            <a:ext cx="294372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1320" y="3858480"/>
            <a:ext cx="294372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82640" y="3858480"/>
            <a:ext cx="294372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716292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914256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716292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446148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040" y="549000"/>
            <a:ext cx="446148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716292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-360" y="39240"/>
            <a:ext cx="7162920" cy="19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716292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446148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040" y="549000"/>
            <a:ext cx="446148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858480"/>
            <a:ext cx="446148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716292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446148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040" y="549000"/>
            <a:ext cx="446148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5040" y="3858480"/>
            <a:ext cx="446148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716292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446148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040" y="549000"/>
            <a:ext cx="446148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0" y="3858480"/>
            <a:ext cx="914256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539640"/>
          </a:xfrm>
          <a:prstGeom prst="rect">
            <a:avLst/>
          </a:prstGeom>
          <a:solidFill>
            <a:srgbClr val="32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716292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549000"/>
            <a:ext cx="914256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lvl="1" marL="539640" indent="-17928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lvl="2" marL="900000" indent="-1792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lvl="3" marL="1171440" indent="-9036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lvl="4" marL="187812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lvl="5" marL="187812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lvl="6" marL="187812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139960" y="653904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6CD200-905C-459F-80B9-79790367FB14}" type="slidenum">
              <a:rPr b="0" lang="en-GB" sz="1400" spc="-1" strike="noStrike">
                <a:solidFill>
                  <a:srgbClr val="32425d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32425d"/>
                </a:solidFill>
                <a:latin typeface="Arial"/>
              </a:rPr>
              <a:t>/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6600" y="6561000"/>
            <a:ext cx="608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2425d"/>
                </a:solidFill>
                <a:latin typeface="Arial"/>
              </a:rPr>
              <a:t>DSA Group       </a:t>
            </a:r>
            <a:r>
              <a:rPr b="1" lang="en-GB" sz="1400" spc="-1" strike="noStrike">
                <a:solidFill>
                  <a:srgbClr val="32425d"/>
                </a:solidFill>
                <a:latin typeface="Arial"/>
              </a:rPr>
              <a:t>                                    The GridWay Incubator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688240" y="71280"/>
            <a:ext cx="113040" cy="123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883720" y="15840"/>
            <a:ext cx="206280" cy="231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916840" y="317520"/>
            <a:ext cx="147960" cy="160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658360" y="298440"/>
            <a:ext cx="176040" cy="193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713800" y="106200"/>
            <a:ext cx="307800" cy="320760"/>
          </a:xfrm>
          <a:prstGeom prst="ellipse">
            <a:avLst/>
          </a:prstGeom>
          <a:noFill/>
          <a:ln w="28440">
            <a:solidFill>
              <a:srgbClr val="32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139960" y="653904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70CAB5-AF77-4E2B-9231-5E8791D606AE}" type="slidenum">
              <a:rPr b="0" lang="en-GB" sz="1400" spc="-1" strike="noStrike">
                <a:solidFill>
                  <a:srgbClr val="32425d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32425d"/>
                </a:solidFill>
                <a:latin typeface="Arial"/>
              </a:rPr>
              <a:t>/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-179280"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lvl="1" marL="539640" indent="-17928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lvl="2" marL="900000" indent="-1792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lvl="3" marL="1171440" indent="-9036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lvl="4" marL="187812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lvl="5" marL="187812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lvl="6" marL="187812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0520" y="2938320"/>
            <a:ext cx="8097840" cy="625320"/>
          </a:xfrm>
          <a:prstGeom prst="roundRect">
            <a:avLst>
              <a:gd name="adj" fmla="val 12495"/>
            </a:avLst>
          </a:prstGeom>
          <a:solidFill>
            <a:srgbClr val="3242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 GridWay Incubator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689360" y="4822920"/>
            <a:ext cx="603360" cy="603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908520" y="4862520"/>
            <a:ext cx="574560" cy="6048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126240" y="3710160"/>
            <a:ext cx="289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Ignacio M. Llor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http://asds.dacya.ucm.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43880" y="189000"/>
            <a:ext cx="4668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Univers"/>
              </a:rPr>
              <a:t>TC11:  The Globus Incubation Management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Univers"/>
              </a:rPr>
              <a:t>GridWorld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Univers"/>
              </a:rPr>
              <a:t>Washington, U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Univers"/>
              </a:rPr>
              <a:t>September 14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64440" y="5575320"/>
            <a:ext cx="358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istributed Systems Architecture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Universidad Complutense de Madr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13280" y="1566720"/>
            <a:ext cx="341280" cy="333360"/>
          </a:xfrm>
          <a:prstGeom prst="ellipse">
            <a:avLst/>
          </a:prstGeom>
          <a:solidFill>
            <a:srgbClr val="32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02240" y="1413000"/>
            <a:ext cx="617400" cy="628560"/>
          </a:xfrm>
          <a:prstGeom prst="ellipse">
            <a:avLst/>
          </a:prstGeom>
          <a:solidFill>
            <a:srgbClr val="32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702320" y="2233440"/>
            <a:ext cx="439560" cy="438480"/>
          </a:xfrm>
          <a:prstGeom prst="ellipse">
            <a:avLst/>
          </a:prstGeom>
          <a:solidFill>
            <a:srgbClr val="32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24360" y="2184480"/>
            <a:ext cx="528480" cy="525240"/>
          </a:xfrm>
          <a:prstGeom prst="ellipse">
            <a:avLst/>
          </a:prstGeom>
          <a:solidFill>
            <a:srgbClr val="32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89240" y="1658880"/>
            <a:ext cx="927360" cy="876240"/>
          </a:xfrm>
          <a:prstGeom prst="ellipse">
            <a:avLst/>
          </a:pr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4065480" y="616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79280" y="907920"/>
            <a:ext cx="8785440" cy="5376960"/>
          </a:xfrm>
          <a:prstGeom prst="roundRect">
            <a:avLst>
              <a:gd name="adj" fmla="val 44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065480" y="616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190440" y="1341360"/>
            <a:ext cx="8569440" cy="4656240"/>
            <a:chOff x="190440" y="1341360"/>
            <a:chExt cx="8569440" cy="4656240"/>
          </a:xfrm>
        </p:grpSpPr>
        <p:sp>
          <p:nvSpPr>
            <p:cNvPr id="339" name=""/>
            <p:cNvSpPr/>
            <p:nvPr/>
          </p:nvSpPr>
          <p:spPr>
            <a:xfrm>
              <a:off x="190440" y="1341360"/>
              <a:ext cx="8569440" cy="465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3366"/>
                  </a:solidFill>
                  <a:latin typeface="Arial"/>
                </a:rPr>
                <a:t>                                  </a:t>
              </a:r>
              <a:r>
                <a:rPr b="1" lang="en-GB" sz="1600" spc="-1" strike="noStrike">
                  <a:solidFill>
                    <a:srgbClr val="003366"/>
                  </a:solidFill>
                  <a:latin typeface="Arial"/>
                </a:rPr>
                <a:t>GLOBUS GRID INFRASTRUCT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40" name=""/>
            <p:cNvCxnSpPr/>
            <p:nvPr/>
          </p:nvCxnSpPr>
          <p:spPr>
            <a:xfrm>
              <a:off x="1979640" y="4370400"/>
              <a:ext cx="1308960" cy="550080"/>
            </a:xfrm>
            <a:prstGeom prst="bentConnector3">
              <a:avLst>
                <a:gd name="adj1" fmla="val 49986"/>
              </a:avLst>
            </a:prstGeom>
            <a:ln w="76320">
              <a:solidFill>
                <a:srgbClr val="eaeaea"/>
              </a:solidFill>
              <a:miter/>
              <a:tailEnd len="med" type="triangle" w="med"/>
            </a:ln>
          </p:spPr>
        </p:cxnSp>
        <p:cxnSp>
          <p:nvCxnSpPr>
            <p:cNvPr id="341" name=""/>
            <p:cNvCxnSpPr/>
            <p:nvPr/>
          </p:nvCxnSpPr>
          <p:spPr>
            <a:xfrm>
              <a:off x="2036880" y="4362480"/>
              <a:ext cx="3015360" cy="575280"/>
            </a:xfrm>
            <a:prstGeom prst="bentConnector3">
              <a:avLst>
                <a:gd name="adj1" fmla="val 49994"/>
              </a:avLst>
            </a:prstGeom>
            <a:ln w="76320">
              <a:solidFill>
                <a:srgbClr val="eaeaea"/>
              </a:solidFill>
              <a:miter/>
              <a:tailEnd len="med" type="triangle" w="med"/>
            </a:ln>
          </p:spPr>
        </p:cxnSp>
        <p:sp>
          <p:nvSpPr>
            <p:cNvPr id="342" name=""/>
            <p:cNvSpPr/>
            <p:nvPr/>
          </p:nvSpPr>
          <p:spPr>
            <a:xfrm flipV="1">
              <a:off x="660240" y="3894120"/>
              <a:ext cx="1800" cy="480960"/>
            </a:xfrm>
            <a:prstGeom prst="line">
              <a:avLst/>
            </a:prstGeom>
            <a:ln w="7632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43" name=""/>
            <p:cNvCxnSpPr/>
            <p:nvPr/>
          </p:nvCxnSpPr>
          <p:spPr>
            <a:xfrm>
              <a:off x="2376000" y="4468680"/>
              <a:ext cx="2520" cy="432720"/>
            </a:xfrm>
            <a:prstGeom prst="bentConnector3">
              <a:avLst>
                <a:gd name="adj1" fmla="val 50000"/>
              </a:avLst>
            </a:prstGeom>
            <a:ln w="76320">
              <a:solidFill>
                <a:srgbClr val="dddddd"/>
              </a:solidFill>
              <a:miter/>
              <a:tailEnd len="med" type="triangle" w="med"/>
            </a:ln>
          </p:spPr>
        </p:cxnSp>
        <p:cxnSp>
          <p:nvCxnSpPr>
            <p:cNvPr id="344" name=""/>
            <p:cNvCxnSpPr/>
            <p:nvPr/>
          </p:nvCxnSpPr>
          <p:spPr>
            <a:xfrm>
              <a:off x="2433240" y="4484520"/>
              <a:ext cx="1251720" cy="450000"/>
            </a:xfrm>
            <a:prstGeom prst="bentConnector3">
              <a:avLst>
                <a:gd name="adj1" fmla="val 50000"/>
              </a:avLst>
            </a:prstGeom>
            <a:ln w="76320">
              <a:solidFill>
                <a:srgbClr val="dddddd"/>
              </a:solidFill>
              <a:miter/>
              <a:tailEnd len="med" type="triangle" w="med"/>
            </a:ln>
          </p:spPr>
        </p:cxnSp>
        <p:cxnSp>
          <p:nvCxnSpPr>
            <p:cNvPr id="345" name=""/>
            <p:cNvCxnSpPr/>
            <p:nvPr/>
          </p:nvCxnSpPr>
          <p:spPr>
            <a:xfrm>
              <a:off x="2358720" y="4484160"/>
              <a:ext cx="3089880" cy="461160"/>
            </a:xfrm>
            <a:prstGeom prst="bentConnector3">
              <a:avLst>
                <a:gd name="adj1" fmla="val 50000"/>
              </a:avLst>
            </a:prstGeom>
            <a:ln w="76320">
              <a:solidFill>
                <a:srgbClr val="dddddd"/>
              </a:solidFill>
              <a:miter/>
              <a:tailEnd len="med" type="triangle" w="med"/>
            </a:ln>
          </p:spPr>
        </p:cxnSp>
        <p:sp>
          <p:nvSpPr>
            <p:cNvPr id="346" name=""/>
            <p:cNvSpPr/>
            <p:nvPr/>
          </p:nvSpPr>
          <p:spPr>
            <a:xfrm flipV="1">
              <a:off x="1943280" y="3882960"/>
              <a:ext cx="1440" cy="379440"/>
            </a:xfrm>
            <a:prstGeom prst="line">
              <a:avLst/>
            </a:prstGeom>
            <a:ln w="76320">
              <a:solidFill>
                <a:srgbClr val="c0c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828800" y="5326200"/>
              <a:ext cx="1136520" cy="160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RESOURCE 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828800" y="5133960"/>
              <a:ext cx="1136520" cy="16020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SGE Clus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259000" y="4940280"/>
              <a:ext cx="339840" cy="1602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RF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624040" y="4940280"/>
              <a:ext cx="341280" cy="16020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MD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835280" y="4940280"/>
              <a:ext cx="396720" cy="16020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GRA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979640" y="4340160"/>
              <a:ext cx="1440" cy="552600"/>
            </a:xfrm>
            <a:prstGeom prst="line">
              <a:avLst/>
            </a:prstGeom>
            <a:ln w="7632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135240" y="5334120"/>
              <a:ext cx="1136880" cy="15876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RESOURCE 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135240" y="5140440"/>
              <a:ext cx="1136880" cy="15876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PBS Clus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565440" y="4948200"/>
              <a:ext cx="339840" cy="1587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RF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932280" y="4948200"/>
              <a:ext cx="341280" cy="15876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MD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143160" y="4948200"/>
              <a:ext cx="397080" cy="15876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GRA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906800" y="5334120"/>
              <a:ext cx="1136880" cy="15876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RESOURCE </a:t>
              </a:r>
              <a:r>
                <a:rPr b="1" i="1" lang="en-GB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906800" y="5140440"/>
              <a:ext cx="1136880" cy="15876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LSF Clus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335560" y="4948200"/>
              <a:ext cx="341280" cy="1587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RF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702400" y="4948200"/>
              <a:ext cx="341280" cy="15876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MD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911840" y="4948200"/>
              <a:ext cx="398520" cy="15876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GRA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90600" y="3564000"/>
              <a:ext cx="568080" cy="31896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Execu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987480" y="3564000"/>
              <a:ext cx="568440" cy="3189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Transf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584360" y="3564000"/>
              <a:ext cx="682560" cy="31896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Inform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295360" y="3564000"/>
              <a:ext cx="654120" cy="318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Schedul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Modu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98520" y="3324240"/>
              <a:ext cx="2550960" cy="21420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GridWay daem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343480" y="3560760"/>
              <a:ext cx="568440" cy="31896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Execu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940360" y="3560760"/>
              <a:ext cx="568440" cy="3189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Transf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537240" y="3560760"/>
              <a:ext cx="682560" cy="31896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Inform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248600" y="3560760"/>
              <a:ext cx="654120" cy="318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Schedul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Modu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351400" y="3321000"/>
              <a:ext cx="2551320" cy="21420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GridWay daem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351400" y="2232000"/>
              <a:ext cx="563760" cy="21276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CLI &amp; AP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346720" y="1992240"/>
              <a:ext cx="568440" cy="2127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USER 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021360" y="1992240"/>
              <a:ext cx="568440" cy="2127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USER </a:t>
              </a:r>
              <a:r>
                <a:rPr b="1" i="1" lang="en-GB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024600" y="2232000"/>
              <a:ext cx="563400" cy="21276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CLI &amp; AP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5613480" y="2444400"/>
              <a:ext cx="1440" cy="81756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6288120" y="2444400"/>
              <a:ext cx="1440" cy="81756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5654520" y="3887280"/>
              <a:ext cx="1800" cy="481320"/>
            </a:xfrm>
            <a:prstGeom prst="line">
              <a:avLst/>
            </a:prstGeom>
            <a:ln w="7632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6262560" y="3876480"/>
              <a:ext cx="1800" cy="587160"/>
            </a:xfrm>
            <a:prstGeom prst="line">
              <a:avLst/>
            </a:prstGeom>
            <a:ln w="7632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6937200" y="3876480"/>
              <a:ext cx="1800" cy="379080"/>
            </a:xfrm>
            <a:prstGeom prst="line">
              <a:avLst/>
            </a:prstGeom>
            <a:ln w="76320">
              <a:solidFill>
                <a:srgbClr val="c0c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906560" y="4257720"/>
              <a:ext cx="5065920" cy="1440"/>
            </a:xfrm>
            <a:prstGeom prst="line">
              <a:avLst/>
            </a:prstGeom>
            <a:ln w="763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236600" y="4487760"/>
              <a:ext cx="5065920" cy="1800"/>
            </a:xfrm>
            <a:prstGeom prst="line">
              <a:avLst/>
            </a:prstGeom>
            <a:ln w="7632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28560" y="4362480"/>
              <a:ext cx="5065920" cy="1440"/>
            </a:xfrm>
            <a:prstGeom prst="line">
              <a:avLst/>
            </a:prstGeom>
            <a:ln w="7632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1268280" y="3882960"/>
              <a:ext cx="1800" cy="587520"/>
            </a:xfrm>
            <a:prstGeom prst="line">
              <a:avLst/>
            </a:prstGeom>
            <a:ln w="7632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6" name=""/>
            <p:cNvCxnSpPr/>
            <p:nvPr/>
          </p:nvCxnSpPr>
          <p:spPr>
            <a:xfrm flipV="1" rot="10800000">
              <a:off x="2718720" y="4255560"/>
              <a:ext cx="908640" cy="645480"/>
            </a:xfrm>
            <a:prstGeom prst="bentConnector3">
              <a:avLst>
                <a:gd name="adj1" fmla="val 49980"/>
              </a:avLst>
            </a:prstGeom>
            <a:ln w="76320">
              <a:solidFill>
                <a:srgbClr val="c0c0c0"/>
              </a:solidFill>
              <a:miter/>
              <a:tailEnd len="med" type="triangle" w="med"/>
            </a:ln>
          </p:spPr>
        </p:cxnSp>
        <p:cxnSp>
          <p:nvCxnSpPr>
            <p:cNvPr id="387" name=""/>
            <p:cNvCxnSpPr/>
            <p:nvPr/>
          </p:nvCxnSpPr>
          <p:spPr>
            <a:xfrm>
              <a:off x="3003480" y="4255560"/>
              <a:ext cx="1024560" cy="662760"/>
            </a:xfrm>
            <a:prstGeom prst="bentConnector3">
              <a:avLst>
                <a:gd name="adj1" fmla="val 49982"/>
              </a:avLst>
            </a:prstGeom>
            <a:ln w="76320">
              <a:solidFill>
                <a:srgbClr val="c0c0c0"/>
              </a:solidFill>
              <a:miter/>
              <a:tailEnd len="med" type="triangle" w="med"/>
            </a:ln>
          </p:spPr>
        </p:cxnSp>
        <p:cxnSp>
          <p:nvCxnSpPr>
            <p:cNvPr id="388" name=""/>
            <p:cNvCxnSpPr/>
            <p:nvPr/>
          </p:nvCxnSpPr>
          <p:spPr>
            <a:xfrm>
              <a:off x="2831760" y="4255560"/>
              <a:ext cx="2958120" cy="683640"/>
            </a:xfrm>
            <a:prstGeom prst="bentConnector3">
              <a:avLst>
                <a:gd name="adj1" fmla="val 50000"/>
              </a:avLst>
            </a:prstGeom>
            <a:ln w="76320">
              <a:solidFill>
                <a:srgbClr val="c0c0c0"/>
              </a:solidFill>
              <a:miter/>
              <a:tailEnd len="med" type="triangle" w="med"/>
            </a:ln>
          </p:spPr>
        </p:cxnSp>
        <p:sp>
          <p:nvSpPr>
            <p:cNvPr id="389" name=""/>
            <p:cNvSpPr/>
            <p:nvPr/>
          </p:nvSpPr>
          <p:spPr>
            <a:xfrm>
              <a:off x="5303160" y="170172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 Narrow"/>
                </a:rPr>
                <a:t>CLIENT HOS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340240" y="1700280"/>
              <a:ext cx="2565360" cy="2195280"/>
            </a:xfrm>
            <a:prstGeom prst="roundRect">
              <a:avLst>
                <a:gd name="adj" fmla="val 3176"/>
              </a:avLst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193080" y="1362240"/>
              <a:ext cx="83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SITE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16200000">
              <a:off x="7835400" y="18856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971760" y="4751280"/>
              <a:ext cx="175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Grid Middlewa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225920" y="5294160"/>
              <a:ext cx="149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Infrastruct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622920" y="2894040"/>
              <a:ext cx="563760" cy="214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CLI &amp; AP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618240" y="2593800"/>
              <a:ext cx="568440" cy="2127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r>
                <a:rPr b="1" i="1" lang="en-GB" sz="800" spc="-1" strike="noStrike">
                  <a:solidFill>
                    <a:srgbClr val="000000"/>
                  </a:solidFill>
                  <a:latin typeface="Arial"/>
                </a:rPr>
                <a:t> n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+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318440" y="2894040"/>
              <a:ext cx="563400" cy="214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CLI &amp; AP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313760" y="2593800"/>
              <a:ext cx="568080" cy="2127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USER </a:t>
              </a:r>
              <a:r>
                <a:rPr b="1" i="1" lang="en-GB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662120" y="2892600"/>
              <a:ext cx="563400" cy="2124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CLI &amp; AP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657440" y="2592360"/>
              <a:ext cx="568080" cy="2127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r>
                <a:rPr b="1" i="1" lang="en-GB" sz="800" spc="-1" strike="noStrike">
                  <a:solidFill>
                    <a:srgbClr val="000000"/>
                  </a:solidFill>
                  <a:latin typeface="Arial"/>
                </a:rPr>
                <a:t> n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+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355840" y="2892600"/>
              <a:ext cx="563400" cy="2124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CLI &amp; AP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351160" y="2592360"/>
              <a:ext cx="568080" cy="2127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USER </a:t>
              </a:r>
              <a:r>
                <a:rPr b="1" i="1" lang="en-GB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01760" y="2232000"/>
              <a:ext cx="563400" cy="21276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CLI &amp; AP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96720" y="1992240"/>
              <a:ext cx="568440" cy="2127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USER 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071720" y="1992240"/>
              <a:ext cx="568080" cy="2127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USER </a:t>
              </a:r>
              <a:r>
                <a:rPr b="1" i="1" lang="en-GB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076400" y="2232000"/>
              <a:ext cx="563400" cy="21276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CLI &amp; AP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663480" y="2444400"/>
              <a:ext cx="1800" cy="81756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1338120" y="2444400"/>
              <a:ext cx="1800" cy="81756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53160" y="170172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 Narrow"/>
                </a:rPr>
                <a:t>CLIENT HOS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90600" y="1700280"/>
              <a:ext cx="2565360" cy="2195280"/>
            </a:xfrm>
            <a:prstGeom prst="roundRect">
              <a:avLst>
                <a:gd name="adj" fmla="val 3176"/>
              </a:avLst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241640" y="1362240"/>
              <a:ext cx="83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SITE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85920" y="2852640"/>
              <a:ext cx="8265960" cy="18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85920" y="4143240"/>
              <a:ext cx="8265960" cy="18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85920" y="5124600"/>
              <a:ext cx="8265960" cy="14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rot="16200000">
              <a:off x="7694280" y="3237120"/>
              <a:ext cx="1467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 Narrow"/>
                </a:rPr>
                <a:t>Site-Lev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 Narrow"/>
                </a:rPr>
                <a:t>Meta-Schedul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133200" y="631800"/>
            <a:ext cx="3359160" cy="44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425d"/>
              </a:gs>
              <a:gs pos="50000">
                <a:srgbClr val="fefefe"/>
              </a:gs>
              <a:gs pos="100000">
                <a:srgbClr val="32425d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Partner Grid Deploy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4920" y="45720"/>
            <a:ext cx="81374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. Relation to other Globus Componen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4065480" y="616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79280" y="907920"/>
            <a:ext cx="8785440" cy="5376960"/>
          </a:xfrm>
          <a:prstGeom prst="roundRect">
            <a:avLst>
              <a:gd name="adj" fmla="val 44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065480" y="616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33200" y="631800"/>
            <a:ext cx="3934080" cy="44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425d"/>
              </a:gs>
              <a:gs pos="50000">
                <a:srgbClr val="fefefe"/>
              </a:gs>
              <a:gs pos="100000">
                <a:srgbClr val="32425d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Outsourced Grid Deploy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4920" y="45720"/>
            <a:ext cx="81374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. Relation to other Globus Componen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413480" cy="49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0" y="39600"/>
            <a:ext cx="716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4. State of the Pro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79280" y="903240"/>
            <a:ext cx="8713800" cy="1689120"/>
          </a:xfrm>
          <a:prstGeom prst="roundRect">
            <a:avLst>
              <a:gd name="adj" fmla="val 319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08000" y="720720"/>
            <a:ext cx="3024000" cy="44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425d"/>
              </a:gs>
              <a:gs pos="50000">
                <a:srgbClr val="fefefe"/>
              </a:gs>
              <a:gs pos="100000">
                <a:srgbClr val="32425d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2425d"/>
                </a:solidFill>
                <a:latin typeface="Arial"/>
              </a:rPr>
              <a:t>History of the 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4000" y="2160720"/>
            <a:ext cx="6696000" cy="360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24000" y="1230480"/>
            <a:ext cx="8472240" cy="12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1092240"/>
                <a:tab algn="l" pos="2006640"/>
                <a:tab algn="l" pos="2921040"/>
                <a:tab algn="l" pos="3835440"/>
                <a:tab algn="l" pos="4749840"/>
                <a:tab algn="l" pos="5664240"/>
                <a:tab algn="l" pos="6578640"/>
                <a:tab algn="l" pos="7493040"/>
                <a:tab algn="l" pos="8407440"/>
                <a:tab algn="l" pos="9321840"/>
                <a:tab algn="l" pos="1023624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rted in </a:t>
            </a: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200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first releases were only distributed on request in binary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1092240"/>
                <a:tab algn="l" pos="2006640"/>
                <a:tab algn="l" pos="2921040"/>
                <a:tab algn="l" pos="3835440"/>
                <a:tab algn="l" pos="4749840"/>
                <a:tab algn="l" pos="5664240"/>
                <a:tab algn="l" pos="6578640"/>
                <a:tab algn="l" pos="7493040"/>
                <a:tab algn="l" pos="8407440"/>
                <a:tab algn="l" pos="9321840"/>
                <a:tab algn="l" pos="1023624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rst open source version, GridWay 4.0, was released in </a:t>
            </a: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January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Aft>
                <a:spcPts val="224"/>
              </a:spcAft>
              <a:buClr>
                <a:srgbClr val="32425d"/>
              </a:buClr>
              <a:buFont typeface="Arial"/>
              <a:buChar char="•"/>
              <a:tabLst>
                <a:tab algn="l" pos="177840"/>
                <a:tab algn="l" pos="1092240"/>
                <a:tab algn="l" pos="2006640"/>
                <a:tab algn="l" pos="2921040"/>
                <a:tab algn="l" pos="3835440"/>
                <a:tab algn="l" pos="4749840"/>
                <a:tab algn="l" pos="5664240"/>
                <a:tab algn="l" pos="6578640"/>
                <a:tab algn="l" pos="7493040"/>
                <a:tab algn="l" pos="8407440"/>
                <a:tab algn="l" pos="9321840"/>
                <a:tab algn="l" pos="10236240"/>
                <a:tab algn="l" pos="10515600"/>
              </a:tabLst>
            </a:pP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GridWay 5.0 was released in June 2006 (Apache license v2)</a:t>
            </a: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1092240"/>
                <a:tab algn="l" pos="2006640"/>
                <a:tab algn="l" pos="2921040"/>
                <a:tab algn="l" pos="3835440"/>
                <a:tab algn="l" pos="4749840"/>
                <a:tab algn="l" pos="5664240"/>
                <a:tab algn="l" pos="6578640"/>
                <a:tab algn="l" pos="7493040"/>
                <a:tab algn="l" pos="8407440"/>
                <a:tab algn="l" pos="9321840"/>
                <a:tab algn="l" pos="1023624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June 2006 GridWay joined the </a:t>
            </a: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Globus Incubator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84040" y="3187800"/>
            <a:ext cx="864252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79280" y="3147840"/>
            <a:ext cx="8785440" cy="3024360"/>
          </a:xfrm>
          <a:prstGeom prst="roundRect">
            <a:avLst>
              <a:gd name="adj" fmla="val 33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17360" y="2851200"/>
            <a:ext cx="3591000" cy="44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425d"/>
              </a:gs>
              <a:gs pos="50000">
                <a:srgbClr val="fefefe"/>
              </a:gs>
              <a:gs pos="100000">
                <a:srgbClr val="32425d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2425d"/>
                </a:solidFill>
                <a:latin typeface="Arial"/>
              </a:rPr>
              <a:t>Downloads &amp; Use C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250920" y="3352680"/>
            <a:ext cx="86421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ince January 2005, downloaded more than </a:t>
            </a: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500 times from 54 different countries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lvl="1" marL="539640" indent="-179280">
              <a:buClr>
                <a:srgbClr val="32425d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32425d"/>
                </a:solidFill>
                <a:latin typeface="Arial"/>
              </a:rPr>
              <a:t>25% are private companies and 75% are universities and research cent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799"/>
              </a:spcBef>
              <a:buClr>
                <a:srgbClr val="32425d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Enterprise/Campus Grids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lvl="1" marL="539640" indent="-179280"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rid Activities at ESAC (</a:t>
            </a:r>
            <a:r>
              <a:rPr b="1" lang="en-GB" sz="1600" spc="-1" strike="noStrike">
                <a:solidFill>
                  <a:srgbClr val="32425d"/>
                </a:solidFill>
                <a:latin typeface="Arial"/>
              </a:rPr>
              <a:t>ESA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), Campus grid deployed by </a:t>
            </a:r>
            <a:r>
              <a:rPr b="1" lang="en-GB" sz="1600" spc="-1" strike="noStrike">
                <a:solidFill>
                  <a:srgbClr val="32425d"/>
                </a:solidFill>
                <a:latin typeface="Arial"/>
              </a:rPr>
              <a:t>Universidade do Porto and Sun Microsystem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799"/>
              </a:spcBef>
              <a:buClr>
                <a:srgbClr val="32425d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Partner Grids: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lvl="1" marL="539640" indent="-179280">
              <a:buClr>
                <a:srgbClr val="32425d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32425d"/>
                </a:solidFill>
                <a:latin typeface="Arial"/>
              </a:rPr>
              <a:t>IRISGrid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(The Spanish National Grid Infrastructure), </a:t>
            </a:r>
            <a:r>
              <a:rPr b="1" lang="en-GB" sz="1600" spc="-1" strike="noStrike">
                <a:solidFill>
                  <a:srgbClr val="32425d"/>
                </a:solidFill>
                <a:latin typeface="Arial"/>
              </a:rPr>
              <a:t>EGE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1600" spc="-1" strike="noStrike">
                <a:solidFill>
                  <a:srgbClr val="32425d"/>
                </a:solidFill>
                <a:latin typeface="Arial"/>
              </a:rPr>
              <a:t>CABGrid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(A Virtual Laboratory for Computational Astrobiology), </a:t>
            </a:r>
            <a:r>
              <a:rPr b="1" lang="en-GB" sz="1600" spc="-1" strike="noStrike">
                <a:solidFill>
                  <a:srgbClr val="32425d"/>
                </a:solidFill>
                <a:latin typeface="Arial"/>
              </a:rPr>
              <a:t>C2VO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(Grid infrastructure development for the implementation of a Computational Chemistry Virtual Organization), </a:t>
            </a:r>
            <a:r>
              <a:rPr b="1" lang="en-GB" sz="1600" spc="-1" strike="noStrike">
                <a:solidFill>
                  <a:srgbClr val="32425d"/>
                </a:solidFill>
                <a:latin typeface="Arial"/>
              </a:rPr>
              <a:t>CRO-GRID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Infrastructure, </a:t>
            </a:r>
            <a:r>
              <a:rPr b="1" lang="en-GB" sz="1600" spc="-1" strike="noStrike">
                <a:solidFill>
                  <a:srgbClr val="32425d"/>
                </a:solidFill>
                <a:latin typeface="Arial"/>
              </a:rPr>
              <a:t>Sun Solution Center World Grid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284040" y="1103400"/>
            <a:ext cx="864252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79280" y="1052640"/>
            <a:ext cx="8785440" cy="4321080"/>
          </a:xfrm>
          <a:prstGeom prst="roundRect">
            <a:avLst>
              <a:gd name="adj" fmla="val 33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17360" y="766800"/>
            <a:ext cx="7750440" cy="44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425d"/>
              </a:gs>
              <a:gs pos="50000">
                <a:srgbClr val="fefefe"/>
              </a:gs>
              <a:gs pos="100000">
                <a:srgbClr val="32425d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2425d"/>
                </a:solidFill>
                <a:latin typeface="Arial"/>
              </a:rPr>
              <a:t>Requirements for the Success of a Grid Technology 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250920" y="1296720"/>
            <a:ext cx="86421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799"/>
              </a:spcBef>
              <a:buClr>
                <a:srgbClr val="32425d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2425d"/>
                </a:solidFill>
                <a:latin typeface="Arial"/>
              </a:rPr>
              <a:t>Non-intrusive deployment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 lvl="1" marL="539640" indent="-179280">
              <a:buClr>
                <a:srgbClr val="32425d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Speed up adop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s a</a:t>
            </a:r>
            <a:r>
              <a:rPr b="0" lang="en-GB" sz="1800" spc="-1" strike="noStrike">
                <a:solidFill>
                  <a:srgbClr val="32425d"/>
                </a:solidFill>
                <a:latin typeface="Arial"/>
              </a:rPr>
              <a:t> smooth integration does not require to change current system 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 marL="179280" indent="-179280">
              <a:spcBef>
                <a:spcPts val="799"/>
              </a:spcBef>
              <a:buClr>
                <a:srgbClr val="32425d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2425d"/>
                </a:solidFill>
                <a:latin typeface="Arial"/>
              </a:rPr>
              <a:t>Adoption of standards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 lvl="1" marL="539640" indent="-179280">
              <a:buClr>
                <a:srgbClr val="32425d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Speed up adop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s integration is faster and chea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 marL="179280" indent="-179280">
              <a:spcBef>
                <a:spcPts val="799"/>
              </a:spcBef>
              <a:buClr>
                <a:srgbClr val="32425d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2425d"/>
                </a:solidFill>
                <a:latin typeface="Arial"/>
              </a:rPr>
              <a:t>Development of an open-source community</a:t>
            </a: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 (open-source software + open development processes and collaborative infrastructure) :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lvl="1" marL="539640" indent="-179280">
              <a:buClr>
                <a:srgbClr val="32425d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Provide long-term stability and suppor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to the project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179280">
              <a:buClr>
                <a:srgbClr val="32425d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Improve its robustness and qualit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hanks to a greater variety of technical visions, solutions, and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44280"/>
            <a:ext cx="9144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5. Why We Wanted to Be an Incubator Pro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5450040" y="2349360"/>
            <a:ext cx="3528720" cy="792360"/>
          </a:xfrm>
          <a:prstGeom prst="rect">
            <a:avLst/>
          </a:prstGeom>
          <a:solidFill>
            <a:srgbClr val="ffffcc"/>
          </a:solidFill>
          <a:ln w="38160">
            <a:solidFill>
              <a:srgbClr val="32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411280" y="3141720"/>
            <a:ext cx="3024360" cy="1079280"/>
          </a:xfrm>
          <a:prstGeom prst="rect">
            <a:avLst/>
          </a:prstGeom>
          <a:solidFill>
            <a:srgbClr val="ffffcc"/>
          </a:solidFill>
          <a:ln w="38160">
            <a:solidFill>
              <a:srgbClr val="32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216000" y="1125360"/>
            <a:ext cx="8821800" cy="5005440"/>
            <a:chOff x="216000" y="1125360"/>
            <a:chExt cx="8821800" cy="5005440"/>
          </a:xfrm>
        </p:grpSpPr>
        <p:sp>
          <p:nvSpPr>
            <p:cNvPr id="441" name=""/>
            <p:cNvSpPr/>
            <p:nvPr/>
          </p:nvSpPr>
          <p:spPr>
            <a:xfrm>
              <a:off x="826920" y="5060880"/>
              <a:ext cx="1584360" cy="1068480"/>
            </a:xfrm>
            <a:prstGeom prst="rect">
              <a:avLst/>
            </a:prstGeom>
            <a:solidFill>
              <a:srgbClr val="3242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Ope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development proces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26920" y="4237200"/>
              <a:ext cx="1584360" cy="823680"/>
            </a:xfrm>
            <a:prstGeom prst="rect">
              <a:avLst/>
            </a:prstGeom>
            <a:solidFill>
              <a:srgbClr val="3242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Open-sourc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softwa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435640" y="4237200"/>
              <a:ext cx="360036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pache V2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411280" y="4237200"/>
              <a:ext cx="302436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pache V2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435640" y="5060880"/>
              <a:ext cx="360036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411280" y="5060880"/>
              <a:ext cx="302436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Framework for open 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Globus development: dev.globus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16000" y="4237200"/>
              <a:ext cx="610920" cy="1892160"/>
            </a:xfrm>
            <a:prstGeom prst="rect">
              <a:avLst/>
            </a:prstGeom>
            <a:solidFill>
              <a:srgbClr val="3242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Open-sourc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commun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435640" y="3168720"/>
              <a:ext cx="360036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RMAA-W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GSA-R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411280" y="3168720"/>
              <a:ext cx="302436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Globus is de facto standard for open source grid computing infrastructure, and adopts many GGF standar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16000" y="3168720"/>
              <a:ext cx="2195280" cy="1068480"/>
            </a:xfrm>
            <a:prstGeom prst="rect">
              <a:avLst/>
            </a:prstGeom>
            <a:solidFill>
              <a:srgbClr val="3242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Standard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adop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435640" y="2344680"/>
              <a:ext cx="3600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GridWay only requires Globus serv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411280" y="2344680"/>
              <a:ext cx="3024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Globus supports the existing platforms and resource manager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6000" y="2344680"/>
              <a:ext cx="2195280" cy="824040"/>
            </a:xfrm>
            <a:prstGeom prst="rect">
              <a:avLst/>
            </a:prstGeom>
            <a:solidFill>
              <a:srgbClr val="3242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Non-intrusiv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deploy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435640" y="1125360"/>
              <a:ext cx="360036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411280" y="1125360"/>
              <a:ext cx="302436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16000" y="1125360"/>
              <a:ext cx="219528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16000" y="2344680"/>
              <a:ext cx="21952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16000" y="3168720"/>
              <a:ext cx="8820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16000" y="4237200"/>
              <a:ext cx="8820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16000" y="6129360"/>
              <a:ext cx="88200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435640" y="1125360"/>
              <a:ext cx="1440" cy="500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9036000" y="1125360"/>
              <a:ext cx="1800" cy="5004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411280" y="1125360"/>
              <a:ext cx="180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26920" y="5060880"/>
              <a:ext cx="82090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26920" y="4237200"/>
              <a:ext cx="1800" cy="18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411280" y="1125360"/>
              <a:ext cx="30243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16000" y="2344680"/>
              <a:ext cx="1440" cy="82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16000" y="1125360"/>
              <a:ext cx="21952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435640" y="1125360"/>
              <a:ext cx="36003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411280" y="2344680"/>
              <a:ext cx="1800" cy="378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411280" y="2344680"/>
              <a:ext cx="6624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16000" y="1125360"/>
              <a:ext cx="1440" cy="1219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16000" y="3168720"/>
              <a:ext cx="1440" cy="2960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6513480" y="1339920"/>
            <a:ext cx="646200" cy="720720"/>
            <a:chOff x="6513480" y="1339920"/>
            <a:chExt cx="646200" cy="720720"/>
          </a:xfrm>
        </p:grpSpPr>
        <p:sp>
          <p:nvSpPr>
            <p:cNvPr id="475" name=""/>
            <p:cNvSpPr/>
            <p:nvPr/>
          </p:nvSpPr>
          <p:spPr>
            <a:xfrm>
              <a:off x="6558120" y="1425600"/>
              <a:ext cx="169560" cy="185760"/>
            </a:xfrm>
            <a:prstGeom prst="ellipse">
              <a:avLst/>
            </a:prstGeom>
            <a:solidFill>
              <a:srgbClr val="395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851520" y="1339920"/>
              <a:ext cx="308160" cy="349200"/>
            </a:xfrm>
            <a:prstGeom prst="ellipse">
              <a:avLst/>
            </a:prstGeom>
            <a:solidFill>
              <a:srgbClr val="395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902280" y="1795320"/>
              <a:ext cx="219240" cy="243000"/>
            </a:xfrm>
            <a:prstGeom prst="ellipse">
              <a:avLst/>
            </a:prstGeom>
            <a:solidFill>
              <a:srgbClr val="395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513480" y="1768320"/>
              <a:ext cx="263520" cy="292320"/>
            </a:xfrm>
            <a:prstGeom prst="ellipse">
              <a:avLst/>
            </a:prstGeom>
            <a:solidFill>
              <a:srgbClr val="395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595920" y="1476360"/>
              <a:ext cx="463680" cy="487440"/>
            </a:xfrm>
            <a:prstGeom prst="ellipse">
              <a:avLst/>
            </a:prstGeom>
            <a:noFill/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80" name="" descr=""/>
          <p:cNvPicPr/>
          <p:nvPr/>
        </p:nvPicPr>
        <p:blipFill>
          <a:blip r:embed="rId1"/>
          <a:stretch/>
        </p:blipFill>
        <p:spPr>
          <a:xfrm>
            <a:off x="3132000" y="1282680"/>
            <a:ext cx="1800360" cy="85392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/>
          <p:nvPr/>
        </p:nvSpPr>
        <p:spPr>
          <a:xfrm>
            <a:off x="7161120" y="155592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2425d"/>
                </a:solidFill>
                <a:latin typeface="Arial"/>
              </a:rPr>
              <a:t>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5464080" y="5048280"/>
            <a:ext cx="3529080" cy="1067400"/>
            <a:chOff x="5464080" y="5048280"/>
            <a:chExt cx="3529080" cy="1067400"/>
          </a:xfrm>
        </p:grpSpPr>
        <p:sp>
          <p:nvSpPr>
            <p:cNvPr id="483" name=""/>
            <p:cNvSpPr/>
            <p:nvPr/>
          </p:nvSpPr>
          <p:spPr>
            <a:xfrm>
              <a:off x="5464080" y="5084640"/>
              <a:ext cx="3529080" cy="100836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3242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487840" y="5048280"/>
              <a:ext cx="29718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The Globus Incubator Program is a great opportunity to be part of a healthy open-source commun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5" name=""/>
          <p:cNvSpPr/>
          <p:nvPr/>
        </p:nvSpPr>
        <p:spPr>
          <a:xfrm>
            <a:off x="0" y="44280"/>
            <a:ext cx="9144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5. Why We Wanted to Be an Incubator Pro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dur="indefinite" fill="hold">
                      <p:stCondLst>
                        <p:cond delay="indefinite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0" y="39600"/>
            <a:ext cx="716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6. Benefits of Being Part of the Globus OSS Commun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74680" y="996840"/>
            <a:ext cx="864216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79280" y="946080"/>
            <a:ext cx="8785440" cy="3778200"/>
          </a:xfrm>
          <a:prstGeom prst="roundRect">
            <a:avLst>
              <a:gd name="adj" fmla="val 33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08000" y="690480"/>
            <a:ext cx="8407440" cy="44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425d"/>
              </a:gs>
              <a:gs pos="50000">
                <a:srgbClr val="fefefe"/>
              </a:gs>
              <a:gs pos="100000">
                <a:srgbClr val="32425d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2425d"/>
                </a:solidFill>
                <a:latin typeface="Arial"/>
              </a:rPr>
              <a:t>Benefits Experienced since GridWay Is an Incubator 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60280" y="1219320"/>
            <a:ext cx="8559720" cy="34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451"/>
              </a:spcBef>
              <a:buClr>
                <a:srgbClr val="32425d"/>
              </a:buClr>
              <a:buFont typeface="Arial"/>
              <a:buChar char="•"/>
              <a:tabLst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515600"/>
              </a:tabLst>
            </a:pP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We have experienced feedbac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from a </a:t>
            </a: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wider user community and greater variet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f technical visions and sugges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451"/>
              </a:spcBef>
              <a:buClr>
                <a:srgbClr val="32425d"/>
              </a:buClr>
              <a:buFont typeface="Arial"/>
              <a:buChar char="•"/>
              <a:tabLst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515600"/>
              </a:tabLst>
            </a:pP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The project benefits from the Globus Development Philosophy and Guidelin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for collaborative-open development and from the </a:t>
            </a: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Globus Development Infrastructur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169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nnouncement/Commit/User/Developer Mailing Li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169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ugzil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169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V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Incubator Program is a perfect environment for higher </a:t>
            </a: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Integration with other Globus pro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451"/>
              </a:spcBef>
              <a:buClr>
                <a:srgbClr val="32425d"/>
              </a:buClr>
              <a:buFont typeface="Arial"/>
              <a:buChar char="•"/>
              <a:tabLst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515600"/>
              </a:tabLst>
            </a:pP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The visibility of the project has been impro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250920" y="1719360"/>
            <a:ext cx="8642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Thank you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for your attention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are grateful to the Incubator Management Project, in particular to its current chair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Jennifer Schop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and to our Mentor,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isa Childer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for their invaluable suppo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-360" y="39600"/>
            <a:ext cx="716436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e GridWay Incubator Proje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2680" y="981000"/>
            <a:ext cx="8964720" cy="1727280"/>
          </a:xfrm>
          <a:prstGeom prst="roundRect">
            <a:avLst>
              <a:gd name="adj" fmla="val 44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2040" y="1308240"/>
            <a:ext cx="875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GB" sz="2400" spc="-1" strike="noStrike">
                <a:solidFill>
                  <a:srgbClr val="32425d"/>
                </a:solidFill>
                <a:latin typeface="Arial"/>
              </a:rPr>
              <a:t> GridWay Meta-scheduler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buClr>
                <a:srgbClr val="32425d"/>
              </a:buClr>
              <a:buFont typeface="Arial"/>
              <a:buChar char="•"/>
              <a:tabLst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515600"/>
              </a:tabLst>
            </a:pPr>
            <a:r>
              <a:rPr b="1" lang="en-GB" sz="2400" spc="-1" strike="noStrike">
                <a:solidFill>
                  <a:srgbClr val="32425d"/>
                </a:solidFill>
                <a:latin typeface="Arial"/>
              </a:rPr>
              <a:t>Why we wanted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be an Incubator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buClr>
                <a:srgbClr val="32425d"/>
              </a:buClr>
              <a:buFont typeface="Arial"/>
              <a:buChar char="•"/>
              <a:tabLst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515600"/>
              </a:tabLst>
            </a:pPr>
            <a:r>
              <a:rPr b="1" lang="en-GB" sz="2400" spc="-1" strike="noStrike">
                <a:solidFill>
                  <a:srgbClr val="32425d"/>
                </a:solidFill>
                <a:latin typeface="Arial"/>
              </a:rPr>
              <a:t>Benefits experienced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nce GridWay is an Incubator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5400" y="774720"/>
            <a:ext cx="3396960" cy="44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425d"/>
              </a:gs>
              <a:gs pos="50000">
                <a:srgbClr val="fefefe"/>
              </a:gs>
              <a:gs pos="100000">
                <a:srgbClr val="32425d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2425d"/>
                </a:solidFill>
                <a:latin typeface="Arial"/>
              </a:rPr>
              <a:t>Aims of the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39600"/>
            <a:ext cx="716436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e GridWay Incubator Proje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981000"/>
            <a:ext cx="8642520" cy="3311640"/>
          </a:xfrm>
          <a:prstGeom prst="roundRect">
            <a:avLst>
              <a:gd name="adj" fmla="val 44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91960" y="1238400"/>
            <a:ext cx="850104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ims of the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nefits and Major Features of the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lation to other Parts of Glo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te of the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y We Wanted to be an Incubator Pro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nefits of Being Part of the Globus OSS Comm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5400" y="765000"/>
            <a:ext cx="1380960" cy="44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425d"/>
              </a:gs>
              <a:gs pos="50000">
                <a:srgbClr val="fefefe"/>
              </a:gs>
              <a:gs pos="100000">
                <a:srgbClr val="32425d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9600"/>
            <a:ext cx="716436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e GridWay Incubator Proje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4284360" y="2062080"/>
            <a:ext cx="4535640" cy="3889440"/>
            <a:chOff x="4284360" y="2062080"/>
            <a:chExt cx="4535640" cy="3889440"/>
          </a:xfrm>
        </p:grpSpPr>
        <p:sp>
          <p:nvSpPr>
            <p:cNvPr id="113" name=""/>
            <p:cNvSpPr/>
            <p:nvPr/>
          </p:nvSpPr>
          <p:spPr>
            <a:xfrm rot="10800000">
              <a:off x="4284360" y="2062080"/>
              <a:ext cx="485640" cy="3889440"/>
            </a:xfrm>
            <a:prstGeom prst="upArrow">
              <a:avLst>
                <a:gd name="adj1" fmla="val 49676"/>
                <a:gd name="adj2" fmla="val 65035"/>
              </a:avLst>
            </a:prstGeom>
            <a:solidFill>
              <a:srgbClr val="3242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580000" y="4869000"/>
              <a:ext cx="3240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Transferring of intellectual contribution and technology is our way to create val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10800000">
              <a:off x="5076720" y="4582800"/>
              <a:ext cx="486000" cy="1368360"/>
            </a:xfrm>
            <a:prstGeom prst="upArrow">
              <a:avLst>
                <a:gd name="adj1" fmla="val 50000"/>
                <a:gd name="adj2" fmla="val 70389"/>
              </a:avLst>
            </a:prstGeom>
            <a:solidFill>
              <a:srgbClr val="3242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971640" y="5950080"/>
            <a:ext cx="6624720" cy="1728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44280"/>
            <a:ext cx="716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. Aim of the Proje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03520" y="692280"/>
            <a:ext cx="30654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80200" y="692280"/>
            <a:ext cx="26528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35200" y="898560"/>
            <a:ext cx="306576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11880" y="898560"/>
            <a:ext cx="26528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30200" y="727200"/>
            <a:ext cx="6193080" cy="117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2425d"/>
                </a:solidFill>
                <a:latin typeface="Arial"/>
              </a:rPr>
              <a:t>GridWay 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he GridWay Project is a Research and Development effort that seeks to </a:t>
            </a:r>
            <a:r>
              <a:rPr b="1" i="1" lang="en-GB" sz="1600" spc="-1" strike="noStrike">
                <a:solidFill>
                  <a:srgbClr val="32425d"/>
                </a:solidFill>
                <a:latin typeface="Arial"/>
              </a:rPr>
              <a:t>advance the technology for meta-scheduling on grid environments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360600" y="3502080"/>
            <a:ext cx="306576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92640" y="3708360"/>
            <a:ext cx="30654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3068640"/>
            <a:ext cx="7777080" cy="137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2425d"/>
                </a:solidFill>
                <a:latin typeface="Arial"/>
              </a:rPr>
              <a:t>GridWay Meta-scheduler 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he GridWay Metascheduler is an </a:t>
            </a:r>
            <a:r>
              <a:rPr b="1" i="1" lang="en-GB" sz="1600" spc="-1" strike="noStrike">
                <a:solidFill>
                  <a:srgbClr val="32425d"/>
                </a:solidFill>
                <a:latin typeface="Arial"/>
              </a:rPr>
              <a:t>open source meta-scheduling technology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 for Globus Grids that seeks to </a:t>
            </a:r>
            <a:r>
              <a:rPr b="1" i="1" lang="en-GB" sz="1600" spc="-1" strike="noStrike">
                <a:solidFill>
                  <a:srgbClr val="32425d"/>
                </a:solidFill>
                <a:latin typeface="Arial"/>
              </a:rPr>
              <a:t>enable reliable and efficient large-scale sharing of computing resources managed by different local resource managers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 within a single organization or scattered across several administrative domains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5076720" y="1992240"/>
            <a:ext cx="3745080" cy="1008000"/>
            <a:chOff x="5076720" y="1992240"/>
            <a:chExt cx="3745080" cy="1008000"/>
          </a:xfrm>
        </p:grpSpPr>
        <p:sp>
          <p:nvSpPr>
            <p:cNvPr id="127" name=""/>
            <p:cNvSpPr/>
            <p:nvPr/>
          </p:nvSpPr>
          <p:spPr>
            <a:xfrm>
              <a:off x="6137280" y="2781360"/>
              <a:ext cx="26528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68960" y="2987640"/>
              <a:ext cx="26528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651640" y="2133720"/>
              <a:ext cx="3024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The results are incorporated as technological innovations into next releas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10800000">
              <a:off x="5076720" y="1992240"/>
              <a:ext cx="486000" cy="1008000"/>
            </a:xfrm>
            <a:prstGeom prst="upArrow">
              <a:avLst>
                <a:gd name="adj1" fmla="val 50000"/>
                <a:gd name="adj2" fmla="val 51852"/>
              </a:avLst>
            </a:prstGeom>
            <a:solidFill>
              <a:srgbClr val="3242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960480" y="1916280"/>
            <a:ext cx="2801880" cy="1082520"/>
            <a:chOff x="960480" y="1916280"/>
            <a:chExt cx="2801880" cy="1082520"/>
          </a:xfrm>
        </p:grpSpPr>
        <p:sp>
          <p:nvSpPr>
            <p:cNvPr id="132" name=""/>
            <p:cNvSpPr/>
            <p:nvPr/>
          </p:nvSpPr>
          <p:spPr>
            <a:xfrm>
              <a:off x="3276720" y="1916280"/>
              <a:ext cx="485640" cy="1082520"/>
            </a:xfrm>
            <a:prstGeom prst="upArrow">
              <a:avLst>
                <a:gd name="adj1" fmla="val 50000"/>
                <a:gd name="adj2" fmla="val 55726"/>
              </a:avLst>
            </a:prstGeom>
            <a:solidFill>
              <a:srgbClr val="3242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960480" y="2082960"/>
              <a:ext cx="22543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The GridWay Meta-scheduler is used to perform resear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-44280" y="4508640"/>
            <a:ext cx="3806640" cy="1368360"/>
            <a:chOff x="-44280" y="4508640"/>
            <a:chExt cx="3806640" cy="1368360"/>
          </a:xfrm>
        </p:grpSpPr>
        <p:sp>
          <p:nvSpPr>
            <p:cNvPr id="135" name=""/>
            <p:cNvSpPr/>
            <p:nvPr/>
          </p:nvSpPr>
          <p:spPr>
            <a:xfrm>
              <a:off x="3276720" y="4508640"/>
              <a:ext cx="485640" cy="1368360"/>
            </a:xfrm>
            <a:prstGeom prst="upArrow">
              <a:avLst>
                <a:gd name="adj1" fmla="val 50000"/>
                <a:gd name="adj2" fmla="val 70441"/>
              </a:avLst>
            </a:prstGeom>
            <a:solidFill>
              <a:srgbClr val="3242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-44280" y="4857840"/>
              <a:ext cx="32986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Needs and requirements in components for grid meta-scheduling and utility computing are evaluated for next release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0920" y="6095880"/>
            <a:ext cx="4664160" cy="3985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2425d"/>
                </a:solidFill>
                <a:latin typeface="Arial"/>
              </a:rPr>
              <a:t>Industry and Scientific Commun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971640" y="5630760"/>
            <a:ext cx="4176720" cy="592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984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71640" y="3683160"/>
            <a:ext cx="4176720" cy="1944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71640" y="2387520"/>
            <a:ext cx="4176720" cy="129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71640" y="819000"/>
            <a:ext cx="4176720" cy="156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71640" y="2387520"/>
            <a:ext cx="4537080" cy="1800"/>
          </a:xfrm>
          <a:prstGeom prst="line">
            <a:avLst/>
          </a:prstGeom>
          <a:ln w="22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71640" y="3683160"/>
            <a:ext cx="4537080" cy="1440"/>
          </a:xfrm>
          <a:prstGeom prst="line">
            <a:avLst/>
          </a:prstGeom>
          <a:ln w="22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71640" y="5627520"/>
            <a:ext cx="4537080" cy="1800"/>
          </a:xfrm>
          <a:prstGeom prst="line">
            <a:avLst/>
          </a:prstGeom>
          <a:ln w="22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64000" y="2387520"/>
            <a:ext cx="1800" cy="1295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64000" y="5627520"/>
            <a:ext cx="1800" cy="59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30480" y="5700600"/>
            <a:ext cx="647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984ff"/>
              </a:gs>
              <a:gs pos="50000">
                <a:srgbClr val="fefefe"/>
              </a:gs>
              <a:gs pos="100000">
                <a:srgbClr val="0984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30480" y="2944800"/>
            <a:ext cx="1800000" cy="67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rid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382840" y="5700600"/>
            <a:ext cx="647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984ff"/>
              </a:gs>
              <a:gs pos="50000">
                <a:srgbClr val="fefefe"/>
              </a:gs>
              <a:gs pos="100000">
                <a:srgbClr val="0984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949400" y="5862600"/>
            <a:ext cx="325440" cy="36720"/>
            <a:chOff x="1949400" y="5862600"/>
            <a:chExt cx="325440" cy="36720"/>
          </a:xfrm>
        </p:grpSpPr>
        <p:sp>
          <p:nvSpPr>
            <p:cNvPr id="151" name=""/>
            <p:cNvSpPr/>
            <p:nvPr/>
          </p:nvSpPr>
          <p:spPr>
            <a:xfrm>
              <a:off x="1949400" y="5862600"/>
              <a:ext cx="36720" cy="36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93760" y="5862600"/>
              <a:ext cx="36720" cy="36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238480" y="5862600"/>
              <a:ext cx="36360" cy="36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2357280" y="1214280"/>
            <a:ext cx="919440" cy="957600"/>
            <a:chOff x="2357280" y="1214280"/>
            <a:chExt cx="919440" cy="957600"/>
          </a:xfrm>
        </p:grpSpPr>
        <p:sp>
          <p:nvSpPr>
            <p:cNvPr id="155" name=""/>
            <p:cNvSpPr/>
            <p:nvPr/>
          </p:nvSpPr>
          <p:spPr>
            <a:xfrm>
              <a:off x="2428920" y="1214280"/>
              <a:ext cx="792000" cy="792360"/>
            </a:xfrm>
            <a:prstGeom prst="rect">
              <a:avLst/>
            </a:prstGeom>
            <a:solidFill>
              <a:srgbClr val="cccc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494080" y="1279440"/>
              <a:ext cx="660240" cy="6588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50000">
                  <a:srgbClr val="fefefe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454120" y="1233360"/>
              <a:ext cx="34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$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357280" y="1442880"/>
              <a:ext cx="91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CL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92440" y="2006640"/>
              <a:ext cx="264960" cy="1317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428920" y="2138400"/>
              <a:ext cx="792000" cy="33480"/>
            </a:xfrm>
            <a:prstGeom prst="rect">
              <a:avLst/>
            </a:prstGeom>
            <a:solidFill>
              <a:srgbClr val="cccc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3708360" y="914400"/>
            <a:ext cx="1008000" cy="1295280"/>
            <a:chOff x="3708360" y="914400"/>
            <a:chExt cx="1008000" cy="1295280"/>
          </a:xfrm>
        </p:grpSpPr>
        <p:sp>
          <p:nvSpPr>
            <p:cNvPr id="162" name=""/>
            <p:cNvSpPr/>
            <p:nvPr/>
          </p:nvSpPr>
          <p:spPr>
            <a:xfrm>
              <a:off x="3708360" y="914400"/>
              <a:ext cx="1008000" cy="129528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711960" y="94608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Resul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780000" y="1379520"/>
              <a:ext cx="576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780000" y="1523880"/>
              <a:ext cx="792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780000" y="1668600"/>
              <a:ext cx="649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780000" y="1811160"/>
              <a:ext cx="792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80000" y="1955880"/>
              <a:ext cx="2188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1074600" y="2475000"/>
            <a:ext cx="2129040" cy="431640"/>
          </a:xfrm>
          <a:prstGeom prst="downArrowCallout">
            <a:avLst>
              <a:gd name="adj1" fmla="val 64402"/>
              <a:gd name="adj2" fmla="val 60902"/>
              <a:gd name="adj3" fmla="val 35662"/>
              <a:gd name="adj4" fmla="val 36764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030320" y="890640"/>
            <a:ext cx="947880" cy="1370520"/>
            <a:chOff x="1030320" y="890640"/>
            <a:chExt cx="947880" cy="1370520"/>
          </a:xfrm>
        </p:grpSpPr>
        <p:sp>
          <p:nvSpPr>
            <p:cNvPr id="171" name=""/>
            <p:cNvSpPr/>
            <p:nvPr/>
          </p:nvSpPr>
          <p:spPr>
            <a:xfrm>
              <a:off x="1030320" y="1954080"/>
              <a:ext cx="85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.C, .jav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093680" y="917640"/>
              <a:ext cx="863640" cy="129528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042920" y="890640"/>
              <a:ext cx="93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DRMA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185840" y="1322280"/>
              <a:ext cx="576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185840" y="1467000"/>
              <a:ext cx="576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185840" y="1611360"/>
              <a:ext cx="576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85840" y="1754280"/>
              <a:ext cx="576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042560" y="1849320"/>
              <a:ext cx="80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 Narrow"/>
                </a:rPr>
                <a:t>.C, .jav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3641400" y="5754600"/>
            <a:ext cx="149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4097520" y="44870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Grid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16200000">
            <a:off x="4277880" y="1390320"/>
            <a:ext cx="139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rot="5400000">
            <a:off x="3561480" y="2460240"/>
            <a:ext cx="792360" cy="1081080"/>
          </a:xfrm>
          <a:custGeom>
            <a:avLst/>
            <a:gdLst>
              <a:gd name="textAreaLeft" fmla="*/ -360 w 792360"/>
              <a:gd name="textAreaRight" fmla="*/ 792360 w 79236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60360" y="3827520"/>
            <a:ext cx="1801800" cy="1584360"/>
          </a:xfrm>
          <a:custGeom>
            <a:avLst/>
            <a:gdLst/>
            <a:ahLst/>
            <a:rect l="l" t="t" r="r" b="b"/>
            <a:pathLst>
              <a:path w="1135" h="998">
                <a:moveTo>
                  <a:pt x="1" y="998"/>
                </a:moveTo>
                <a:cubicBezTo>
                  <a:pt x="1" y="998"/>
                  <a:pt x="568" y="998"/>
                  <a:pt x="1135" y="998"/>
                </a:cubicBezTo>
                <a:cubicBezTo>
                  <a:pt x="1134" y="699"/>
                  <a:pt x="636" y="699"/>
                  <a:pt x="636" y="544"/>
                </a:cubicBezTo>
                <a:cubicBezTo>
                  <a:pt x="636" y="544"/>
                  <a:pt x="636" y="498"/>
                  <a:pt x="636" y="453"/>
                </a:cubicBezTo>
                <a:cubicBezTo>
                  <a:pt x="648" y="291"/>
                  <a:pt x="1134" y="297"/>
                  <a:pt x="1135" y="0"/>
                </a:cubicBezTo>
                <a:cubicBezTo>
                  <a:pt x="568" y="0"/>
                  <a:pt x="1128" y="3"/>
                  <a:pt x="1" y="0"/>
                </a:cubicBezTo>
                <a:cubicBezTo>
                  <a:pt x="0" y="291"/>
                  <a:pt x="498" y="291"/>
                  <a:pt x="500" y="453"/>
                </a:cubicBezTo>
                <a:cubicBezTo>
                  <a:pt x="500" y="498"/>
                  <a:pt x="500" y="544"/>
                  <a:pt x="500" y="544"/>
                </a:cubicBezTo>
                <a:cubicBezTo>
                  <a:pt x="498" y="705"/>
                  <a:pt x="0" y="699"/>
                  <a:pt x="1" y="998"/>
                </a:cubicBez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22600" y="445140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Glo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rot="16200000">
            <a:off x="4262040" y="2741400"/>
            <a:ext cx="118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Grid Meta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chedu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194440" y="2665440"/>
            <a:ext cx="3889080" cy="912600"/>
            <a:chOff x="5194440" y="2665440"/>
            <a:chExt cx="3889080" cy="912600"/>
          </a:xfrm>
        </p:grpSpPr>
        <p:sp>
          <p:nvSpPr>
            <p:cNvPr id="187" name=""/>
            <p:cNvSpPr/>
            <p:nvPr/>
          </p:nvSpPr>
          <p:spPr>
            <a:xfrm>
              <a:off x="5908680" y="2665440"/>
              <a:ext cx="3174840" cy="912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395c75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395c75"/>
                  </a:solidFill>
                  <a:latin typeface="Arial"/>
                </a:rPr>
                <a:t> </a:t>
              </a:r>
              <a:r>
                <a:rPr b="1" lang="en-GB" sz="1600" spc="-1" strike="noStrike">
                  <a:solidFill>
                    <a:srgbClr val="395c75"/>
                  </a:solidFill>
                  <a:latin typeface="Arial"/>
                </a:rPr>
                <a:t>open source meta-schedul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job execution managemen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ource brokeri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194440" y="2901960"/>
              <a:ext cx="647640" cy="43344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433440"/>
                <a:gd name="textAreaBottom" fmla="*/ 433800 h 43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9e4ff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5194440" y="1197000"/>
            <a:ext cx="3625560" cy="643320"/>
            <a:chOff x="5194440" y="1197000"/>
            <a:chExt cx="3625560" cy="643320"/>
          </a:xfrm>
        </p:grpSpPr>
        <p:sp>
          <p:nvSpPr>
            <p:cNvPr id="190" name=""/>
            <p:cNvSpPr/>
            <p:nvPr/>
          </p:nvSpPr>
          <p:spPr>
            <a:xfrm>
              <a:off x="5908680" y="1197000"/>
              <a:ext cx="2911320" cy="643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tandard API (GGF DRMAA)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 Line Interfac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94440" y="1298520"/>
              <a:ext cx="647640" cy="43344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433440"/>
                <a:gd name="textAreaBottom" fmla="*/ 433800 h 43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5219640" y="4202280"/>
            <a:ext cx="3313080" cy="912600"/>
            <a:chOff x="5219640" y="4202280"/>
            <a:chExt cx="3313080" cy="912600"/>
          </a:xfrm>
        </p:grpSpPr>
        <p:sp>
          <p:nvSpPr>
            <p:cNvPr id="193" name=""/>
            <p:cNvSpPr/>
            <p:nvPr/>
          </p:nvSpPr>
          <p:spPr>
            <a:xfrm>
              <a:off x="5219640" y="4438800"/>
              <a:ext cx="647640" cy="43308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908680" y="4202280"/>
              <a:ext cx="2624040" cy="912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Globus serv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tandard interfa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nd-to-end (e.g. TCP/IP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5219640" y="5473800"/>
            <a:ext cx="3863880" cy="912600"/>
            <a:chOff x="5219640" y="5473800"/>
            <a:chExt cx="3863880" cy="912600"/>
          </a:xfrm>
        </p:grpSpPr>
        <p:sp>
          <p:nvSpPr>
            <p:cNvPr id="196" name=""/>
            <p:cNvSpPr/>
            <p:nvPr/>
          </p:nvSpPr>
          <p:spPr>
            <a:xfrm>
              <a:off x="5219640" y="5710320"/>
              <a:ext cx="647640" cy="43344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433440"/>
                <a:gd name="textAreaBottom" fmla="*/ 433800 h 43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984ff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908680" y="5473800"/>
              <a:ext cx="3174840" cy="912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highly dynam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heterogeneo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high fault r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6161040" y="1935000"/>
            <a:ext cx="2352600" cy="611280"/>
            <a:chOff x="6161040" y="1935000"/>
            <a:chExt cx="2352600" cy="611280"/>
          </a:xfrm>
        </p:grpSpPr>
        <p:sp>
          <p:nvSpPr>
            <p:cNvPr id="199" name=""/>
            <p:cNvSpPr/>
            <p:nvPr/>
          </p:nvSpPr>
          <p:spPr>
            <a:xfrm rot="5400000">
              <a:off x="7033320" y="2024640"/>
              <a:ext cx="611280" cy="432000"/>
            </a:xfrm>
            <a:custGeom>
              <a:avLst/>
              <a:gdLst>
                <a:gd name="textAreaLeft" fmla="*/ 0 w 611280"/>
                <a:gd name="textAreaRight" fmla="*/ 611640 w 61128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9e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161040" y="2071800"/>
              <a:ext cx="23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Grid Scheduling Ste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208080" y="1349280"/>
            <a:ext cx="618840" cy="4795920"/>
            <a:chOff x="208080" y="1349280"/>
            <a:chExt cx="618840" cy="4795920"/>
          </a:xfrm>
        </p:grpSpPr>
        <p:sp>
          <p:nvSpPr>
            <p:cNvPr id="202" name=""/>
            <p:cNvSpPr/>
            <p:nvPr/>
          </p:nvSpPr>
          <p:spPr>
            <a:xfrm>
              <a:off x="463680" y="5641920"/>
              <a:ext cx="358560" cy="5032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3242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68360" y="1349280"/>
              <a:ext cx="358560" cy="5032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3242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10800000">
              <a:off x="208080" y="1486080"/>
              <a:ext cx="287280" cy="4536720"/>
            </a:xfrm>
            <a:prstGeom prst="rect">
              <a:avLst/>
            </a:prstGeom>
            <a:solidFill>
              <a:srgbClr val="3242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lication-Infrastructure decoup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 flipV="1">
            <a:off x="8820000" y="3211200"/>
            <a:ext cx="1800" cy="2739960"/>
          </a:xfrm>
          <a:prstGeom prst="line">
            <a:avLst/>
          </a:prstGeom>
          <a:ln w="28440">
            <a:solidFill>
              <a:srgbClr val="6969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9600"/>
            <a:ext cx="716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. Aim of the Proje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87280" y="884160"/>
            <a:ext cx="8713800" cy="1320840"/>
          </a:xfrm>
          <a:prstGeom prst="roundRect">
            <a:avLst>
              <a:gd name="adj" fmla="val 191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9280" y="663480"/>
            <a:ext cx="3943440" cy="44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425d"/>
              </a:gs>
              <a:gs pos="50000">
                <a:srgbClr val="fefefe"/>
              </a:gs>
              <a:gs pos="100000">
                <a:srgbClr val="32425d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Benefits for the Orga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50920" y="1125360"/>
            <a:ext cx="87138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20000"/>
              </a:lnSpc>
              <a:buClr>
                <a:srgbClr val="32425d"/>
              </a:buClr>
              <a:buFont typeface="Arial"/>
              <a:buChar char="•"/>
              <a:tabLst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515600"/>
              </a:tabLst>
            </a:pP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Integration of non-interoperable computational platform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Establishment of a </a:t>
            </a:r>
            <a:r>
              <a:rPr b="1" lang="en-GB" sz="1600" spc="-1" strike="noStrike">
                <a:solidFill>
                  <a:srgbClr val="32425d"/>
                </a:solidFill>
                <a:latin typeface="Arial"/>
                <a:ea typeface="Arial"/>
              </a:rPr>
              <a:t>uniform and flexible infrastructur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chievement of </a:t>
            </a:r>
            <a:r>
              <a:rPr b="1" lang="en-GB" sz="1600" spc="-1" strike="noStrike">
                <a:solidFill>
                  <a:srgbClr val="32425d"/>
                </a:solidFill>
                <a:latin typeface="Arial"/>
                <a:ea typeface="Arial"/>
              </a:rPr>
              <a:t>greater utilization of resources and higher application through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813744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. Benefits and Major Features of the Produ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50920" y="2770200"/>
            <a:ext cx="8713800" cy="1652400"/>
          </a:xfrm>
          <a:prstGeom prst="roundRect">
            <a:avLst>
              <a:gd name="adj" fmla="val 191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42920" y="2549520"/>
            <a:ext cx="4267080" cy="44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425d"/>
              </a:gs>
              <a:gs pos="50000">
                <a:srgbClr val="fefefe"/>
              </a:gs>
              <a:gs pos="100000">
                <a:srgbClr val="32425d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Benefits for System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14200" y="3011400"/>
            <a:ext cx="8713800" cy="12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20000"/>
              </a:lnSpc>
              <a:buClr>
                <a:srgbClr val="32425d"/>
              </a:buClr>
              <a:buFont typeface="Arial"/>
              <a:buChar char="•"/>
              <a:tabLst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515600"/>
              </a:tabLst>
            </a:pP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Support for the existing platforms and resource manag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20000"/>
              </a:lnSpc>
              <a:buClr>
                <a:srgbClr val="32425d"/>
              </a:buClr>
              <a:buFont typeface="Arial"/>
              <a:buChar char="•"/>
              <a:tabLst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515600"/>
              </a:tabLst>
            </a:pPr>
            <a:r>
              <a:rPr b="1" lang="en-GB" sz="1600" spc="-1" strike="noStrike">
                <a:solidFill>
                  <a:srgbClr val="32425d"/>
                </a:solidFill>
                <a:latin typeface="Arial"/>
                <a:ea typeface="Arial"/>
              </a:rPr>
              <a:t>Allocation of grid resourc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according to management specified polic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nalysis of </a:t>
            </a:r>
            <a:r>
              <a:rPr b="1" lang="en-GB" sz="1600" spc="-1" strike="noStrike">
                <a:solidFill>
                  <a:srgbClr val="32425d"/>
                </a:solidFill>
                <a:latin typeface="Arial"/>
                <a:ea typeface="Arial"/>
              </a:rPr>
              <a:t>trends in resource usag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Monitoring of </a:t>
            </a:r>
            <a:r>
              <a:rPr b="1" lang="en-GB" sz="1600" spc="-1" strike="noStrike">
                <a:solidFill>
                  <a:srgbClr val="32425d"/>
                </a:solidFill>
                <a:latin typeface="Arial"/>
                <a:ea typeface="Arial"/>
              </a:rPr>
              <a:t>user behav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44440" y="4957920"/>
            <a:ext cx="8713800" cy="1292040"/>
          </a:xfrm>
          <a:prstGeom prst="roundRect">
            <a:avLst>
              <a:gd name="adj" fmla="val 191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6440" y="4738680"/>
            <a:ext cx="6823080" cy="44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425d"/>
              </a:gs>
              <a:gs pos="50000">
                <a:srgbClr val="fefefe"/>
              </a:gs>
              <a:gs pos="100000">
                <a:srgbClr val="32425d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Benefits for End Users and Application Develop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08080" y="5199120"/>
            <a:ext cx="87138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20000"/>
              </a:lnSpc>
              <a:buClr>
                <a:srgbClr val="32425d"/>
              </a:buClr>
              <a:buFont typeface="Arial"/>
              <a:buChar char="•"/>
              <a:tabLst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515600"/>
              </a:tabLst>
            </a:pP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Friendly CLI and a standard API</a:t>
            </a:r>
            <a:r>
              <a:rPr b="1" lang="en-GB" sz="1600" spc="-1" strike="noStrike">
                <a:solidFill>
                  <a:srgbClr val="32425d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ubmission, control and monitoring of</a:t>
            </a:r>
            <a:r>
              <a:rPr b="1" lang="en-GB" sz="1600" spc="-1" strike="noStrike">
                <a:solidFill>
                  <a:srgbClr val="32425d"/>
                </a:solidFill>
                <a:latin typeface="Arial"/>
                <a:ea typeface="Arial"/>
              </a:rPr>
              <a:t> high throughput computing applications and abstract workflow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, which may require file transferring and/or database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87280" y="884160"/>
            <a:ext cx="8713800" cy="1681200"/>
          </a:xfrm>
          <a:prstGeom prst="roundRect">
            <a:avLst>
              <a:gd name="adj" fmla="val 191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79280" y="663480"/>
            <a:ext cx="3168720" cy="44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425d"/>
              </a:gs>
              <a:gs pos="50000">
                <a:srgbClr val="fefefe"/>
              </a:gs>
              <a:gs pos="100000">
                <a:srgbClr val="32425d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Workload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50920" y="1103400"/>
            <a:ext cx="87138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vanced </a:t>
            </a: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scheduling capabiliti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nd support for new scheduling poli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20000"/>
              </a:lnSpc>
              <a:buClr>
                <a:srgbClr val="32425d"/>
              </a:buClr>
              <a:buFont typeface="Arial"/>
              <a:buChar char="•"/>
              <a:tabLst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515600"/>
              </a:tabLst>
            </a:pP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Fault detection &amp; recovery capab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20000"/>
              </a:lnSpc>
              <a:buClr>
                <a:srgbClr val="32425d"/>
              </a:buClr>
              <a:buFont typeface="Arial"/>
              <a:buChar char="•"/>
              <a:tabLst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515600"/>
              </a:tabLst>
            </a:pP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Accountin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facilit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port for </a:t>
            </a: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array jobs and job dependen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50920" y="3103560"/>
            <a:ext cx="8713800" cy="1116000"/>
          </a:xfrm>
          <a:prstGeom prst="roundRect">
            <a:avLst>
              <a:gd name="adj" fmla="val 191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42920" y="2882880"/>
            <a:ext cx="2052720" cy="44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425d"/>
              </a:gs>
              <a:gs pos="50000">
                <a:srgbClr val="fefefe"/>
              </a:gs>
              <a:gs pos="100000">
                <a:srgbClr val="32425d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2425d"/>
                </a:solidFill>
                <a:latin typeface="Arial"/>
              </a:rPr>
              <a:t>User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14200" y="3344760"/>
            <a:ext cx="8713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ull support for </a:t>
            </a: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C and JAVA DRMA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GGF standar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20000"/>
              </a:lnSpc>
              <a:buClr>
                <a:srgbClr val="32425d"/>
              </a:buClr>
              <a:buFont typeface="Arial"/>
              <a:buChar char="•"/>
              <a:tabLst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515600"/>
              </a:tabLst>
            </a:pP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Command line interfac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similar to that found on local D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50920" y="4727520"/>
            <a:ext cx="8713800" cy="1365480"/>
          </a:xfrm>
          <a:prstGeom prst="roundRect">
            <a:avLst>
              <a:gd name="adj" fmla="val 191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42920" y="4506840"/>
            <a:ext cx="1727280" cy="44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425d"/>
              </a:gs>
              <a:gs pos="50000">
                <a:srgbClr val="fefefe"/>
              </a:gs>
              <a:gs pos="100000">
                <a:srgbClr val="32425d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Integ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4200" y="4968720"/>
            <a:ext cx="8713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20000"/>
              </a:lnSpc>
              <a:buClr>
                <a:srgbClr val="32425d"/>
              </a:buClr>
              <a:buFont typeface="Arial"/>
              <a:buChar char="•"/>
              <a:tabLst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515600"/>
              </a:tabLst>
            </a:pP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Straightforward deployment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 new services are not re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face with </a:t>
            </a: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new grid servic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20000"/>
              </a:lnSpc>
              <a:buClr>
                <a:srgbClr val="32425d"/>
              </a:buClr>
              <a:buFont typeface="Arial"/>
              <a:buChar char="•"/>
              <a:tabLst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515600"/>
              </a:tabLst>
            </a:pP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interoperabilit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between different infrastructures (GT WS, GT pre-WS, EGEE…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4920" y="45720"/>
            <a:ext cx="81374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. Benefits and Major Features of the Produ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4920" y="45720"/>
            <a:ext cx="81374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. Relation to other Globus Componen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065480" y="616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-37080" y="620640"/>
            <a:ext cx="6171120" cy="3754080"/>
            <a:chOff x="-37080" y="620640"/>
            <a:chExt cx="6171120" cy="3754080"/>
          </a:xfrm>
        </p:grpSpPr>
        <p:sp>
          <p:nvSpPr>
            <p:cNvPr id="230" name=""/>
            <p:cNvSpPr/>
            <p:nvPr/>
          </p:nvSpPr>
          <p:spPr>
            <a:xfrm>
              <a:off x="1290600" y="1214280"/>
              <a:ext cx="4843440" cy="3133800"/>
            </a:xfrm>
            <a:custGeom>
              <a:avLst/>
              <a:gdLst/>
              <a:ahLst/>
              <a:rect l="l" t="t" r="r" b="b"/>
              <a:pathLst>
                <a:path w="3051" h="1974">
                  <a:moveTo>
                    <a:pt x="0" y="0"/>
                  </a:moveTo>
                  <a:lnTo>
                    <a:pt x="5" y="1974"/>
                  </a:lnTo>
                  <a:lnTo>
                    <a:pt x="3049" y="1969"/>
                  </a:lnTo>
                  <a:lnTo>
                    <a:pt x="3051" y="1139"/>
                  </a:lnTo>
                  <a:lnTo>
                    <a:pt x="2160" y="1141"/>
                  </a:lnTo>
                  <a:lnTo>
                    <a:pt x="215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ff">
                <a:alpha val="51000"/>
              </a:srgbClr>
            </a:solidFill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372120" y="3664080"/>
              <a:ext cx="1211040" cy="643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760400" y="3659040"/>
              <a:ext cx="1077120" cy="643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Transf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41200" y="3174840"/>
              <a:ext cx="1355760" cy="643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Inform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434040" y="2398680"/>
              <a:ext cx="1098360" cy="643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Dispat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443040" y="1438200"/>
              <a:ext cx="1077120" cy="643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2405160" y="2471760"/>
              <a:ext cx="576000" cy="576360"/>
              <a:chOff x="2405160" y="2471760"/>
              <a:chExt cx="576000" cy="576360"/>
            </a:xfrm>
          </p:grpSpPr>
          <p:sp>
            <p:nvSpPr>
              <p:cNvPr id="237" name=""/>
              <p:cNvSpPr/>
              <p:nvPr/>
            </p:nvSpPr>
            <p:spPr>
              <a:xfrm>
                <a:off x="2405160" y="2471760"/>
                <a:ext cx="576000" cy="73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405160" y="2544840"/>
                <a:ext cx="576000" cy="73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405160" y="2616120"/>
                <a:ext cx="576000" cy="73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405160" y="2689200"/>
                <a:ext cx="576000" cy="73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405160" y="2757600"/>
                <a:ext cx="576000" cy="73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405160" y="2830680"/>
                <a:ext cx="576000" cy="72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405160" y="2901960"/>
                <a:ext cx="576000" cy="73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405160" y="2975040"/>
                <a:ext cx="576000" cy="73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1424160" y="2471760"/>
              <a:ext cx="576000" cy="576360"/>
              <a:chOff x="1424160" y="2471760"/>
              <a:chExt cx="576000" cy="576360"/>
            </a:xfrm>
          </p:grpSpPr>
          <p:sp>
            <p:nvSpPr>
              <p:cNvPr id="246" name=""/>
              <p:cNvSpPr/>
              <p:nvPr/>
            </p:nvSpPr>
            <p:spPr>
              <a:xfrm>
                <a:off x="1424160" y="2471760"/>
                <a:ext cx="576000" cy="73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424160" y="2544840"/>
                <a:ext cx="576000" cy="73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424160" y="2616120"/>
                <a:ext cx="576000" cy="73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424160" y="2689200"/>
                <a:ext cx="576000" cy="73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424160" y="2757600"/>
                <a:ext cx="576000" cy="73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424160" y="2830680"/>
                <a:ext cx="576000" cy="72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424160" y="2901960"/>
                <a:ext cx="576000" cy="73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424160" y="2975040"/>
                <a:ext cx="576000" cy="73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>
              <a:off x="4926240" y="2530440"/>
              <a:ext cx="1196640" cy="3733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Schedul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34" idx="2"/>
              <a:endCxn id="231" idx="0"/>
            </p:cNvCxnSpPr>
            <p:nvPr/>
          </p:nvCxnSpPr>
          <p:spPr>
            <a:xfrm flipH="1">
              <a:off x="3976200" y="3041280"/>
              <a:ext cx="5760" cy="62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56" name=""/>
            <p:cNvCxnSpPr>
              <a:stCxn id="233" idx="1"/>
              <a:endCxn id="232" idx="0"/>
            </p:cNvCxnSpPr>
            <p:nvPr/>
          </p:nvCxnSpPr>
          <p:spPr>
            <a:xfrm flipV="1" rot="10800000">
              <a:off x="2297880" y="3495240"/>
              <a:ext cx="2445480" cy="164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57" name=""/>
            <p:cNvCxnSpPr>
              <a:stCxn id="234" idx="3"/>
              <a:endCxn id="254" idx="1"/>
            </p:cNvCxnSpPr>
            <p:nvPr/>
          </p:nvCxnSpPr>
          <p:spPr>
            <a:xfrm flipV="1">
              <a:off x="4528800" y="2715480"/>
              <a:ext cx="39924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58" name=""/>
            <p:cNvCxnSpPr>
              <a:stCxn id="235" idx="2"/>
              <a:endCxn id="234" idx="0"/>
            </p:cNvCxnSpPr>
            <p:nvPr/>
          </p:nvCxnSpPr>
          <p:spPr>
            <a:xfrm>
              <a:off x="3981600" y="2081160"/>
              <a:ext cx="2160" cy="317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59" name=""/>
            <p:cNvSpPr/>
            <p:nvPr/>
          </p:nvSpPr>
          <p:spPr>
            <a:xfrm>
              <a:off x="1270440" y="1947960"/>
              <a:ext cx="884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 Narrow"/>
                </a:rPr>
                <a:t>Job P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215800" y="1947960"/>
              <a:ext cx="95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 Narrow"/>
                </a:rPr>
                <a:t>Host P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469520" y="620640"/>
              <a:ext cx="1647720" cy="37332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DRMAA libr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709440" y="620640"/>
              <a:ext cx="542880" cy="37332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CL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1" idx="2"/>
              <a:endCxn id="235" idx="0"/>
            </p:cNvCxnSpPr>
            <p:nvPr/>
          </p:nvCxnSpPr>
          <p:spPr>
            <a:xfrm>
              <a:off x="2293920" y="993240"/>
              <a:ext cx="1689840" cy="445320"/>
            </a:xfrm>
            <a:prstGeom prst="bentConnector3">
              <a:avLst>
                <a:gd name="adj1" fmla="val 49989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4" name=""/>
            <p:cNvCxnSpPr>
              <a:stCxn id="262" idx="2"/>
              <a:endCxn id="235" idx="0"/>
            </p:cNvCxnSpPr>
            <p:nvPr/>
          </p:nvCxnSpPr>
          <p:spPr>
            <a:xfrm>
              <a:off x="3979440" y="957240"/>
              <a:ext cx="2520" cy="481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65" name=""/>
            <p:cNvSpPr/>
            <p:nvPr/>
          </p:nvSpPr>
          <p:spPr>
            <a:xfrm>
              <a:off x="1373760" y="1393920"/>
              <a:ext cx="153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GridWay Co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92160" y="4343400"/>
              <a:ext cx="60246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-37080" y="3794040"/>
              <a:ext cx="1402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3366"/>
                  </a:solidFill>
                  <a:latin typeface="Arial Narrow"/>
                </a:rPr>
                <a:t>GridWa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3366"/>
                  </a:solidFill>
                  <a:latin typeface="Arial Narrow"/>
                </a:rPr>
                <a:t>admin. accou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1523520" y="5473800"/>
            <a:ext cx="1485360" cy="9126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351240" y="5473800"/>
            <a:ext cx="1236960" cy="9126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720800" y="4379760"/>
            <a:ext cx="522360" cy="433440"/>
          </a:xfrm>
          <a:prstGeom prst="rect">
            <a:avLst/>
          </a:prstGeom>
          <a:solidFill>
            <a:srgbClr val="0056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 Narrow"/>
              </a:rPr>
              <a:t>Grid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306520" y="4379760"/>
            <a:ext cx="522360" cy="433440"/>
          </a:xfrm>
          <a:prstGeom prst="rect">
            <a:avLst/>
          </a:prstGeom>
          <a:solidFill>
            <a:srgbClr val="0056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 Narrow"/>
              </a:rPr>
              <a:t>R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433680" y="4379760"/>
            <a:ext cx="522360" cy="433440"/>
          </a:xfrm>
          <a:prstGeom prst="rect">
            <a:avLst/>
          </a:prstGeom>
          <a:solidFill>
            <a:srgbClr val="0056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 Narrow"/>
              </a:rPr>
              <a:t>pre-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 Narrow"/>
              </a:rPr>
              <a:t>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021200" y="4379760"/>
            <a:ext cx="522360" cy="433440"/>
          </a:xfrm>
          <a:prstGeom prst="rect">
            <a:avLst/>
          </a:prstGeom>
          <a:solidFill>
            <a:srgbClr val="0056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 Narrow"/>
              </a:rPr>
              <a:t>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 Narrow"/>
              </a:rPr>
              <a:t>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161040" y="3198960"/>
            <a:ext cx="1079640" cy="198360"/>
          </a:xfrm>
          <a:prstGeom prst="rect">
            <a:avLst/>
          </a:prstGeom>
          <a:solidFill>
            <a:srgbClr val="0056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 Narrow"/>
              </a:rPr>
              <a:t>MDS2 (Globus)</a:t>
            </a:r>
            <a:r>
              <a:rPr b="1" lang="en-GB" sz="1200" spc="-1" strike="noStrike">
                <a:solidFill>
                  <a:srgbClr val="ffffff"/>
                </a:solidFill>
                <a:latin typeface="Arial Narrow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161040" y="3414600"/>
            <a:ext cx="1079640" cy="198720"/>
          </a:xfrm>
          <a:prstGeom prst="rect">
            <a:avLst/>
          </a:prstGeom>
          <a:solidFill>
            <a:srgbClr val="0056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 Narrow"/>
              </a:rPr>
              <a:t>MDS2 (GLUE)</a:t>
            </a:r>
            <a:r>
              <a:rPr b="1" lang="en-GB" sz="1200" spc="-1" strike="noStrike">
                <a:solidFill>
                  <a:srgbClr val="ffffff"/>
                </a:solidFill>
                <a:latin typeface="Arial Narrow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61040" y="3629160"/>
            <a:ext cx="1079640" cy="198360"/>
          </a:xfrm>
          <a:prstGeom prst="rect">
            <a:avLst/>
          </a:prstGeom>
          <a:solidFill>
            <a:srgbClr val="0056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 Narrow"/>
              </a:rPr>
              <a:t>MDS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153760" y="4346640"/>
            <a:ext cx="233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56ac"/>
                </a:solidFill>
                <a:latin typeface="Arial Narrow"/>
              </a:rPr>
              <a:t>Middleware Access Driv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19880" y="4365720"/>
            <a:ext cx="108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3366"/>
                </a:solidFill>
                <a:latin typeface="Arial Narrow"/>
              </a:rPr>
              <a:t>User 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672320" y="3054240"/>
            <a:ext cx="1381680" cy="9126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264440" y="3330720"/>
            <a:ext cx="360360" cy="360360"/>
          </a:xfrm>
          <a:custGeom>
            <a:avLst/>
            <a:gdLst>
              <a:gd name="textAreaLeft" fmla="*/ 0 w 360360"/>
              <a:gd name="textAreaRight" fmla="*/ 360720 w 360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56ac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rot="5400000">
            <a:off x="3674520" y="496260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56ac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rot="5400000">
            <a:off x="1990440" y="496260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56ac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440320" y="1700280"/>
            <a:ext cx="2303640" cy="649080"/>
          </a:xfrm>
          <a:prstGeom prst="wedgeRectCallout">
            <a:avLst>
              <a:gd name="adj1" fmla="val -49037"/>
              <a:gd name="adj2" fmla="val 17396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2300" dir="836435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source Discov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source Monito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50920" y="5013360"/>
            <a:ext cx="1657080" cy="863640"/>
          </a:xfrm>
          <a:prstGeom prst="wedgeRectCallout">
            <a:avLst>
              <a:gd name="adj1" fmla="val 53351"/>
              <a:gd name="adj2" fmla="val -13272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2300" dir="836435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Job Prepa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Job Termi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Job Mi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500720" y="4797360"/>
            <a:ext cx="1657080" cy="1152720"/>
          </a:xfrm>
          <a:prstGeom prst="wedgeRectCallout">
            <a:avLst>
              <a:gd name="adj1" fmla="val -52106"/>
              <a:gd name="adj2" fmla="val -9311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Job Sub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Job Monito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Job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Job Mi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236520" y="860400"/>
            <a:ext cx="8728200" cy="5305320"/>
          </a:xfrm>
          <a:prstGeom prst="roundRect">
            <a:avLst>
              <a:gd name="adj" fmla="val 44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332000" y="2033640"/>
            <a:ext cx="6192720" cy="1368360"/>
          </a:xfrm>
          <a:prstGeom prst="roundRect">
            <a:avLst>
              <a:gd name="adj" fmla="val 16667"/>
            </a:avLst>
          </a:prstGeom>
          <a:solidFill>
            <a:srgbClr val="bbe0e3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065480" y="616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33200" y="631800"/>
            <a:ext cx="3648240" cy="44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425d"/>
              </a:gs>
              <a:gs pos="50000">
                <a:srgbClr val="fefefe"/>
              </a:gs>
              <a:gs pos="100000">
                <a:srgbClr val="32425d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Enterprise Grid Deploy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992840" y="4846680"/>
            <a:ext cx="768240" cy="14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916280" y="3760920"/>
            <a:ext cx="1769040" cy="707040"/>
          </a:xfrm>
          <a:prstGeom prst="bentConnector3">
            <a:avLst>
              <a:gd name="adj1" fmla="val 49989"/>
            </a:avLst>
          </a:prstGeom>
          <a:ln w="7632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292" name=""/>
          <p:cNvCxnSpPr/>
          <p:nvPr/>
        </p:nvCxnSpPr>
        <p:spPr>
          <a:xfrm>
            <a:off x="1992240" y="3751200"/>
            <a:ext cx="4077360" cy="742320"/>
          </a:xfrm>
          <a:prstGeom prst="bentConnector3">
            <a:avLst>
              <a:gd name="adj1" fmla="val 49995"/>
            </a:avLst>
          </a:prstGeom>
          <a:ln w="76320">
            <a:solidFill>
              <a:srgbClr val="eaeaea"/>
            </a:solidFill>
            <a:miter/>
            <a:tailEnd len="med" type="triangle" w="med"/>
          </a:ln>
        </p:spPr>
      </p:cxnSp>
      <p:sp>
        <p:nvSpPr>
          <p:cNvPr id="293" name=""/>
          <p:cNvSpPr/>
          <p:nvPr/>
        </p:nvSpPr>
        <p:spPr>
          <a:xfrm flipV="1">
            <a:off x="1916280" y="3133800"/>
            <a:ext cx="1440" cy="61920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4" name=""/>
          <p:cNvCxnSpPr/>
          <p:nvPr/>
        </p:nvCxnSpPr>
        <p:spPr>
          <a:xfrm>
            <a:off x="2452680" y="3887640"/>
            <a:ext cx="2160" cy="558000"/>
          </a:xfrm>
          <a:prstGeom prst="bentConnector3">
            <a:avLst>
              <a:gd name="adj1" fmla="val 40000"/>
            </a:avLst>
          </a:prstGeom>
          <a:ln w="7632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295" name=""/>
          <p:cNvCxnSpPr/>
          <p:nvPr/>
        </p:nvCxnSpPr>
        <p:spPr>
          <a:xfrm>
            <a:off x="2529000" y="3908520"/>
            <a:ext cx="1692720" cy="581400"/>
          </a:xfrm>
          <a:prstGeom prst="bentConnector3">
            <a:avLst>
              <a:gd name="adj1" fmla="val 49989"/>
            </a:avLst>
          </a:prstGeom>
          <a:ln w="7632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296" name=""/>
          <p:cNvCxnSpPr/>
          <p:nvPr/>
        </p:nvCxnSpPr>
        <p:spPr>
          <a:xfrm>
            <a:off x="2428920" y="3908160"/>
            <a:ext cx="4178520" cy="594360"/>
          </a:xfrm>
          <a:prstGeom prst="bentConnector3">
            <a:avLst>
              <a:gd name="adj1" fmla="val 50000"/>
            </a:avLst>
          </a:prstGeom>
          <a:ln w="76320">
            <a:solidFill>
              <a:srgbClr val="dddddd"/>
            </a:solidFill>
            <a:miter/>
            <a:tailEnd len="med" type="triangle" w="med"/>
          </a:ln>
        </p:spPr>
      </p:cxnSp>
      <p:sp>
        <p:nvSpPr>
          <p:cNvPr id="297" name=""/>
          <p:cNvSpPr/>
          <p:nvPr/>
        </p:nvSpPr>
        <p:spPr>
          <a:xfrm flipV="1">
            <a:off x="2760840" y="3133440"/>
            <a:ext cx="1440" cy="755640"/>
          </a:xfrm>
          <a:prstGeom prst="line">
            <a:avLst/>
          </a:prstGeom>
          <a:ln w="7632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8" name=""/>
          <p:cNvCxnSpPr/>
          <p:nvPr/>
        </p:nvCxnSpPr>
        <p:spPr>
          <a:xfrm flipV="1" rot="10800000">
            <a:off x="2915640" y="3614400"/>
            <a:ext cx="1229400" cy="830880"/>
          </a:xfrm>
          <a:prstGeom prst="bentConnector3">
            <a:avLst>
              <a:gd name="adj1" fmla="val 50000"/>
            </a:avLst>
          </a:prstGeom>
          <a:ln w="7632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299" name=""/>
          <p:cNvCxnSpPr/>
          <p:nvPr/>
        </p:nvCxnSpPr>
        <p:spPr>
          <a:xfrm>
            <a:off x="3300120" y="3614760"/>
            <a:ext cx="1384920" cy="853200"/>
          </a:xfrm>
          <a:prstGeom prst="bentConnector3">
            <a:avLst>
              <a:gd name="adj1" fmla="val 50000"/>
            </a:avLst>
          </a:prstGeom>
          <a:ln w="7632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300" name=""/>
          <p:cNvCxnSpPr/>
          <p:nvPr/>
        </p:nvCxnSpPr>
        <p:spPr>
          <a:xfrm>
            <a:off x="3068640" y="3614400"/>
            <a:ext cx="4001040" cy="878760"/>
          </a:xfrm>
          <a:prstGeom prst="bentConnector3">
            <a:avLst>
              <a:gd name="adj1" fmla="val 49995"/>
            </a:avLst>
          </a:prstGeom>
          <a:ln w="7632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301" name=""/>
          <p:cNvSpPr/>
          <p:nvPr/>
        </p:nvSpPr>
        <p:spPr>
          <a:xfrm flipV="1">
            <a:off x="3719520" y="3133800"/>
            <a:ext cx="1440" cy="48888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059560" y="5322960"/>
            <a:ext cx="488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3366"/>
                </a:solidFill>
                <a:latin typeface="Arial"/>
              </a:rPr>
              <a:t>GLOBUS ENTERPRISE GRID INFRA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66160" y="2314440"/>
            <a:ext cx="2084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TE-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ETA-SCHEDU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608120" y="4992840"/>
            <a:ext cx="1536840" cy="2062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RESOURC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608120" y="4745160"/>
            <a:ext cx="1536840" cy="2062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SGE Clu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189160" y="4495680"/>
            <a:ext cx="460440" cy="206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R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684520" y="4495680"/>
            <a:ext cx="460440" cy="20664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M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617840" y="4495680"/>
            <a:ext cx="537840" cy="20664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G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16280" y="3722760"/>
            <a:ext cx="1440" cy="71280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376440" y="5002200"/>
            <a:ext cx="1536840" cy="204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RESOURC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376440" y="4754520"/>
            <a:ext cx="1536840" cy="2034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PBS Clu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957480" y="4505400"/>
            <a:ext cx="462240" cy="2048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R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452840" y="4505400"/>
            <a:ext cx="460440" cy="20484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M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86160" y="4505400"/>
            <a:ext cx="538200" cy="20484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G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772240" y="5002200"/>
            <a:ext cx="1536480" cy="204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RESOURCE </a:t>
            </a:r>
            <a:r>
              <a:rPr b="1" i="1" lang="en-GB" sz="1400" spc="-1" strike="noStrike">
                <a:solidFill>
                  <a:srgbClr val="000000"/>
                </a:solidFill>
                <a:latin typeface="Arial Narrow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772240" y="4754520"/>
            <a:ext cx="1536480" cy="2034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LSF Clu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353280" y="4505400"/>
            <a:ext cx="460440" cy="2048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R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848640" y="4505400"/>
            <a:ext cx="460080" cy="20484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M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80160" y="4505400"/>
            <a:ext cx="538200" cy="20484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G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414520" y="2722680"/>
            <a:ext cx="768240" cy="41256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Trans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Dri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220920" y="2722680"/>
            <a:ext cx="924120" cy="4125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Dri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183200" y="2722680"/>
            <a:ext cx="885600" cy="412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Schedu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617840" y="2414520"/>
            <a:ext cx="3450960" cy="27612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GridWay daem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300560" y="1700280"/>
            <a:ext cx="768240" cy="27468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USER </a:t>
            </a:r>
            <a:r>
              <a:rPr b="1" i="1" lang="en-GB" sz="1400" spc="-1" strike="noStrike">
                <a:solidFill>
                  <a:srgbClr val="000000"/>
                </a:solidFill>
                <a:latin typeface="Arial Narrow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92560" y="1866960"/>
            <a:ext cx="928440" cy="14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284720" y="2106720"/>
            <a:ext cx="762120" cy="276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CLI &amp; A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1608120" y="2106720"/>
            <a:ext cx="1625760" cy="279360"/>
            <a:chOff x="1608120" y="2106720"/>
            <a:chExt cx="1625760" cy="279360"/>
          </a:xfrm>
        </p:grpSpPr>
        <p:sp>
          <p:nvSpPr>
            <p:cNvPr id="328" name=""/>
            <p:cNvSpPr/>
            <p:nvPr/>
          </p:nvSpPr>
          <p:spPr>
            <a:xfrm>
              <a:off x="1608120" y="2106720"/>
              <a:ext cx="763560" cy="2761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CLI &amp; AP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471760" y="2111400"/>
              <a:ext cx="762120" cy="2746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CLI &amp; AP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1608120" y="1700280"/>
            <a:ext cx="1631880" cy="277920"/>
            <a:chOff x="1608120" y="1700280"/>
            <a:chExt cx="1631880" cy="277920"/>
          </a:xfrm>
        </p:grpSpPr>
        <p:sp>
          <p:nvSpPr>
            <p:cNvPr id="331" name=""/>
            <p:cNvSpPr/>
            <p:nvPr/>
          </p:nvSpPr>
          <p:spPr>
            <a:xfrm>
              <a:off x="1608120" y="1700280"/>
              <a:ext cx="768240" cy="2746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USER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471760" y="1704960"/>
              <a:ext cx="768240" cy="2732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USER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1619280" y="2720880"/>
            <a:ext cx="768240" cy="41292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Exec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Dri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4920" y="45720"/>
            <a:ext cx="81374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. Relation to other Globus Componen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cho</cp:lastModifiedBy>
  <cp:revision>0</cp:revision>
  <dc:subject/>
  <dc:title>PowerPoint Presentation</dc:title>
</cp:coreProperties>
</file>